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128-414C-4237-9172-CA349D25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227-D4F0-4EC1-B833-7DF86062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C60A-1CC9-4F96-BF57-89163934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FB6-7763-4FC9-9404-261A2B41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21E-3EC9-4D20-AE0A-FE4678F7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3E5-F735-4C0C-B511-1292FECA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5B4-382D-4D73-84B2-51B584D6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9C8-2A58-49B4-9B33-DF24246B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EAC-2E47-4C4F-9758-C1C939DF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AFC-1D4B-4813-82BE-B6EC8AE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6E0-EA6C-48CB-AF38-EE6E6DBF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AC7-1E95-424A-A244-2FDD2295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AE44-BD47-4D1C-A14E-DBA83BC8DC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541600">
            <a:off x="826920" y="2491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0" spc="-1" strike="noStrike">
                <a:solidFill>
                  <a:srgbClr val="000000"/>
                </a:solidFill>
                <a:latin typeface="Calibri"/>
              </a:rPr>
              <a:t>Kleidung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Monty\AppData\Local\Microsoft\Windows\Temporary Internet Files\Content.IE5\1QA3R9QV\MC900351235[1].wmf"/>
          <p:cNvPicPr/>
          <p:nvPr/>
        </p:nvPicPr>
        <p:blipFill>
          <a:blip r:embed="rId1"/>
          <a:stretch/>
        </p:blipFill>
        <p:spPr>
          <a:xfrm rot="20829600">
            <a:off x="377640" y="1274400"/>
            <a:ext cx="2808000" cy="1449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Users\Monty\AppData\Local\Microsoft\Windows\Temporary Internet Files\Content.IE5\FMJON4F1\MC900044907[1].wmf"/>
          <p:cNvPicPr/>
          <p:nvPr/>
        </p:nvPicPr>
        <p:blipFill>
          <a:blip r:embed="rId2"/>
          <a:stretch/>
        </p:blipFill>
        <p:spPr>
          <a:xfrm>
            <a:off x="5940360" y="4221000"/>
            <a:ext cx="280188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Sock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Monty\AppData\Local\Microsoft\Windows\Temporary Internet Files\Content.IE5\1QA3R9QV\MC900027152[1].wmf"/>
          <p:cNvPicPr/>
          <p:nvPr/>
        </p:nvPicPr>
        <p:blipFill>
          <a:blip r:embed="rId1"/>
          <a:stretch/>
        </p:blipFill>
        <p:spPr>
          <a:xfrm rot="2973600">
            <a:off x="3204000" y="1987920"/>
            <a:ext cx="3378240" cy="4021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187280" y="595008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die Soc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Krawatt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Users\Monty\AppData\Local\Microsoft\Windows\Temporary Internet Files\Content.IE5\1QA3R9QV\MC900094769[1].wmf"/>
          <p:cNvPicPr/>
          <p:nvPr/>
        </p:nvPicPr>
        <p:blipFill>
          <a:blip r:embed="rId1"/>
          <a:stretch/>
        </p:blipFill>
        <p:spPr>
          <a:xfrm rot="20614800">
            <a:off x="3644640" y="1828800"/>
            <a:ext cx="25002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Schuh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Monty\AppData\Local\Microsoft\Windows\Temporary Internet Files\Content.IE5\GME7AUO9\MC900142095[1].wmf"/>
          <p:cNvPicPr/>
          <p:nvPr/>
        </p:nvPicPr>
        <p:blipFill>
          <a:blip r:embed="rId1"/>
          <a:stretch/>
        </p:blipFill>
        <p:spPr>
          <a:xfrm>
            <a:off x="3054240" y="2792520"/>
            <a:ext cx="3035520" cy="2141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900000" y="580536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der Schuh – the sh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800" spc="-1" strike="noStrike">
                <a:solidFill>
                  <a:srgbClr val="ff0000"/>
                </a:solidFill>
                <a:latin typeface="Calibri"/>
              </a:rPr>
              <a:t>die Handschuh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Users\Monty\AppData\Local\Microsoft\Windows\Temporary Internet Files\Content.IE5\GME7AUO9\MC900113286[1].wmf"/>
          <p:cNvPicPr/>
          <p:nvPr/>
        </p:nvPicPr>
        <p:blipFill>
          <a:blip r:embed="rId1"/>
          <a:stretch/>
        </p:blipFill>
        <p:spPr>
          <a:xfrm rot="21375000">
            <a:off x="2168640" y="2168640"/>
            <a:ext cx="465912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b050"/>
                </a:solidFill>
                <a:latin typeface="Calibri"/>
              </a:rPr>
              <a:t>das Klei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Monty\AppData\Local\Microsoft\Windows\Temporary Internet Files\Content.IE5\1QA3R9QV\MC900113392[1].wmf"/>
          <p:cNvPicPr/>
          <p:nvPr/>
        </p:nvPicPr>
        <p:blipFill>
          <a:blip r:embed="rId1"/>
          <a:stretch/>
        </p:blipFill>
        <p:spPr>
          <a:xfrm>
            <a:off x="3492360" y="1989000"/>
            <a:ext cx="21463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b050"/>
                </a:solidFill>
                <a:latin typeface="Calibri"/>
              </a:rPr>
              <a:t>das Hem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2554920" y="1555920"/>
            <a:ext cx="4768920" cy="4900320"/>
            <a:chOff x="2554920" y="1555920"/>
            <a:chExt cx="4768920" cy="4900320"/>
          </a:xfrm>
        </p:grpSpPr>
        <p:sp>
          <p:nvSpPr>
            <p:cNvPr id="75" name="AutoShape 6"/>
            <p:cNvSpPr/>
            <p:nvPr/>
          </p:nvSpPr>
          <p:spPr>
            <a:xfrm rot="20788800">
              <a:off x="2979360" y="1956960"/>
              <a:ext cx="3919680" cy="40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 rot="20788800">
              <a:off x="2968200" y="2141640"/>
              <a:ext cx="3178800" cy="3724200"/>
            </a:xfrm>
            <a:custGeom>
              <a:avLst/>
              <a:gdLst>
                <a:gd name="textAreaLeft" fmla="*/ 0 w 3178800"/>
                <a:gd name="textAreaRight" fmla="*/ 3179160 w 3178800"/>
                <a:gd name="textAreaTop" fmla="*/ 0 h 3724200"/>
                <a:gd name="textAreaBottom" fmla="*/ 3724560 h 3724200"/>
              </a:gdLst>
              <a:ahLst/>
              <a:rect l="textAreaLeft" t="textAreaTop" r="textAreaRight" b="textAreaBottom"/>
              <a:pathLst>
                <a:path w="4771" h="4691">
                  <a:moveTo>
                    <a:pt x="1809" y="200"/>
                  </a:moveTo>
                  <a:lnTo>
                    <a:pt x="1780" y="200"/>
                  </a:lnTo>
                  <a:lnTo>
                    <a:pt x="1708" y="202"/>
                  </a:lnTo>
                  <a:lnTo>
                    <a:pt x="1603" y="208"/>
                  </a:lnTo>
                  <a:lnTo>
                    <a:pt x="1481" y="217"/>
                  </a:lnTo>
                  <a:lnTo>
                    <a:pt x="1353" y="227"/>
                  </a:lnTo>
                  <a:lnTo>
                    <a:pt x="1235" y="245"/>
                  </a:lnTo>
                  <a:lnTo>
                    <a:pt x="1140" y="264"/>
                  </a:lnTo>
                  <a:lnTo>
                    <a:pt x="1082" y="291"/>
                  </a:lnTo>
                  <a:lnTo>
                    <a:pt x="1006" y="373"/>
                  </a:lnTo>
                  <a:lnTo>
                    <a:pt x="869" y="547"/>
                  </a:lnTo>
                  <a:lnTo>
                    <a:pt x="692" y="778"/>
                  </a:lnTo>
                  <a:lnTo>
                    <a:pt x="500" y="1042"/>
                  </a:lnTo>
                  <a:lnTo>
                    <a:pt x="310" y="1299"/>
                  </a:lnTo>
                  <a:lnTo>
                    <a:pt x="151" y="1530"/>
                  </a:lnTo>
                  <a:lnTo>
                    <a:pt x="39" y="1695"/>
                  </a:lnTo>
                  <a:lnTo>
                    <a:pt x="0" y="1771"/>
                  </a:lnTo>
                  <a:lnTo>
                    <a:pt x="2" y="1800"/>
                  </a:lnTo>
                  <a:lnTo>
                    <a:pt x="6" y="1860"/>
                  </a:lnTo>
                  <a:lnTo>
                    <a:pt x="12" y="1935"/>
                  </a:lnTo>
                  <a:lnTo>
                    <a:pt x="29" y="2031"/>
                  </a:lnTo>
                  <a:lnTo>
                    <a:pt x="54" y="2129"/>
                  </a:lnTo>
                  <a:lnTo>
                    <a:pt x="97" y="2230"/>
                  </a:lnTo>
                  <a:lnTo>
                    <a:pt x="155" y="2327"/>
                  </a:lnTo>
                  <a:lnTo>
                    <a:pt x="237" y="2414"/>
                  </a:lnTo>
                  <a:lnTo>
                    <a:pt x="326" y="2484"/>
                  </a:lnTo>
                  <a:lnTo>
                    <a:pt x="411" y="2544"/>
                  </a:lnTo>
                  <a:lnTo>
                    <a:pt x="490" y="2593"/>
                  </a:lnTo>
                  <a:lnTo>
                    <a:pt x="560" y="2632"/>
                  </a:lnTo>
                  <a:lnTo>
                    <a:pt x="617" y="2657"/>
                  </a:lnTo>
                  <a:lnTo>
                    <a:pt x="663" y="2676"/>
                  </a:lnTo>
                  <a:lnTo>
                    <a:pt x="690" y="2686"/>
                  </a:lnTo>
                  <a:lnTo>
                    <a:pt x="702" y="2692"/>
                  </a:lnTo>
                  <a:lnTo>
                    <a:pt x="1000" y="2517"/>
                  </a:lnTo>
                  <a:lnTo>
                    <a:pt x="987" y="2587"/>
                  </a:lnTo>
                  <a:lnTo>
                    <a:pt x="956" y="2775"/>
                  </a:lnTo>
                  <a:lnTo>
                    <a:pt x="909" y="3041"/>
                  </a:lnTo>
                  <a:lnTo>
                    <a:pt x="859" y="3349"/>
                  </a:lnTo>
                  <a:lnTo>
                    <a:pt x="808" y="3659"/>
                  </a:lnTo>
                  <a:lnTo>
                    <a:pt x="766" y="3935"/>
                  </a:lnTo>
                  <a:lnTo>
                    <a:pt x="737" y="4136"/>
                  </a:lnTo>
                  <a:lnTo>
                    <a:pt x="731" y="4229"/>
                  </a:lnTo>
                  <a:lnTo>
                    <a:pt x="754" y="4243"/>
                  </a:lnTo>
                  <a:lnTo>
                    <a:pt x="808" y="4251"/>
                  </a:lnTo>
                  <a:lnTo>
                    <a:pt x="886" y="4251"/>
                  </a:lnTo>
                  <a:lnTo>
                    <a:pt x="981" y="4253"/>
                  </a:lnTo>
                  <a:lnTo>
                    <a:pt x="1082" y="4253"/>
                  </a:lnTo>
                  <a:lnTo>
                    <a:pt x="1185" y="4261"/>
                  </a:lnTo>
                  <a:lnTo>
                    <a:pt x="1278" y="4274"/>
                  </a:lnTo>
                  <a:lnTo>
                    <a:pt x="1359" y="4303"/>
                  </a:lnTo>
                  <a:lnTo>
                    <a:pt x="1448" y="4342"/>
                  </a:lnTo>
                  <a:lnTo>
                    <a:pt x="1572" y="4396"/>
                  </a:lnTo>
                  <a:lnTo>
                    <a:pt x="1724" y="4456"/>
                  </a:lnTo>
                  <a:lnTo>
                    <a:pt x="1898" y="4520"/>
                  </a:lnTo>
                  <a:lnTo>
                    <a:pt x="2084" y="4579"/>
                  </a:lnTo>
                  <a:lnTo>
                    <a:pt x="2280" y="4631"/>
                  </a:lnTo>
                  <a:lnTo>
                    <a:pt x="2474" y="4670"/>
                  </a:lnTo>
                  <a:lnTo>
                    <a:pt x="2664" y="4691"/>
                  </a:lnTo>
                  <a:lnTo>
                    <a:pt x="2840" y="4683"/>
                  </a:lnTo>
                  <a:lnTo>
                    <a:pt x="3011" y="4652"/>
                  </a:lnTo>
                  <a:lnTo>
                    <a:pt x="3166" y="4602"/>
                  </a:lnTo>
                  <a:lnTo>
                    <a:pt x="3306" y="4544"/>
                  </a:lnTo>
                  <a:lnTo>
                    <a:pt x="3418" y="4484"/>
                  </a:lnTo>
                  <a:lnTo>
                    <a:pt x="3507" y="4431"/>
                  </a:lnTo>
                  <a:lnTo>
                    <a:pt x="3563" y="4394"/>
                  </a:lnTo>
                  <a:lnTo>
                    <a:pt x="3585" y="4381"/>
                  </a:lnTo>
                  <a:lnTo>
                    <a:pt x="3684" y="2754"/>
                  </a:lnTo>
                  <a:lnTo>
                    <a:pt x="3823" y="2985"/>
                  </a:lnTo>
                  <a:lnTo>
                    <a:pt x="3833" y="2981"/>
                  </a:lnTo>
                  <a:lnTo>
                    <a:pt x="3860" y="2975"/>
                  </a:lnTo>
                  <a:lnTo>
                    <a:pt x="3901" y="2963"/>
                  </a:lnTo>
                  <a:lnTo>
                    <a:pt x="3955" y="2952"/>
                  </a:lnTo>
                  <a:lnTo>
                    <a:pt x="4013" y="2934"/>
                  </a:lnTo>
                  <a:lnTo>
                    <a:pt x="4079" y="2915"/>
                  </a:lnTo>
                  <a:lnTo>
                    <a:pt x="4147" y="2890"/>
                  </a:lnTo>
                  <a:lnTo>
                    <a:pt x="4215" y="2866"/>
                  </a:lnTo>
                  <a:lnTo>
                    <a:pt x="4288" y="2824"/>
                  </a:lnTo>
                  <a:lnTo>
                    <a:pt x="4380" y="2758"/>
                  </a:lnTo>
                  <a:lnTo>
                    <a:pt x="4476" y="2667"/>
                  </a:lnTo>
                  <a:lnTo>
                    <a:pt x="4575" y="2564"/>
                  </a:lnTo>
                  <a:lnTo>
                    <a:pt x="4661" y="2445"/>
                  </a:lnTo>
                  <a:lnTo>
                    <a:pt x="4729" y="2327"/>
                  </a:lnTo>
                  <a:lnTo>
                    <a:pt x="4767" y="2209"/>
                  </a:lnTo>
                  <a:lnTo>
                    <a:pt x="4771" y="2100"/>
                  </a:lnTo>
                  <a:lnTo>
                    <a:pt x="4717" y="1955"/>
                  </a:lnTo>
                  <a:lnTo>
                    <a:pt x="4610" y="1757"/>
                  </a:lnTo>
                  <a:lnTo>
                    <a:pt x="4467" y="1522"/>
                  </a:lnTo>
                  <a:lnTo>
                    <a:pt x="4308" y="1280"/>
                  </a:lnTo>
                  <a:lnTo>
                    <a:pt x="4145" y="1047"/>
                  </a:lnTo>
                  <a:lnTo>
                    <a:pt x="4003" y="852"/>
                  </a:lnTo>
                  <a:lnTo>
                    <a:pt x="3895" y="714"/>
                  </a:lnTo>
                  <a:lnTo>
                    <a:pt x="3844" y="658"/>
                  </a:lnTo>
                  <a:lnTo>
                    <a:pt x="3804" y="640"/>
                  </a:lnTo>
                  <a:lnTo>
                    <a:pt x="3734" y="613"/>
                  </a:lnTo>
                  <a:lnTo>
                    <a:pt x="3645" y="578"/>
                  </a:lnTo>
                  <a:lnTo>
                    <a:pt x="3548" y="541"/>
                  </a:lnTo>
                  <a:lnTo>
                    <a:pt x="3451" y="502"/>
                  </a:lnTo>
                  <a:lnTo>
                    <a:pt x="3369" y="471"/>
                  </a:lnTo>
                  <a:lnTo>
                    <a:pt x="3313" y="450"/>
                  </a:lnTo>
                  <a:lnTo>
                    <a:pt x="3292" y="442"/>
                  </a:lnTo>
                  <a:lnTo>
                    <a:pt x="3282" y="429"/>
                  </a:lnTo>
                  <a:lnTo>
                    <a:pt x="3261" y="392"/>
                  </a:lnTo>
                  <a:lnTo>
                    <a:pt x="3228" y="342"/>
                  </a:lnTo>
                  <a:lnTo>
                    <a:pt x="3191" y="285"/>
                  </a:lnTo>
                  <a:lnTo>
                    <a:pt x="3150" y="225"/>
                  </a:lnTo>
                  <a:lnTo>
                    <a:pt x="3112" y="173"/>
                  </a:lnTo>
                  <a:lnTo>
                    <a:pt x="3079" y="132"/>
                  </a:lnTo>
                  <a:lnTo>
                    <a:pt x="3057" y="113"/>
                  </a:lnTo>
                  <a:lnTo>
                    <a:pt x="3015" y="99"/>
                  </a:lnTo>
                  <a:lnTo>
                    <a:pt x="2935" y="82"/>
                  </a:lnTo>
                  <a:lnTo>
                    <a:pt x="2825" y="60"/>
                  </a:lnTo>
                  <a:lnTo>
                    <a:pt x="2697" y="39"/>
                  </a:lnTo>
                  <a:lnTo>
                    <a:pt x="2557" y="20"/>
                  </a:lnTo>
                  <a:lnTo>
                    <a:pt x="2423" y="6"/>
                  </a:lnTo>
                  <a:lnTo>
                    <a:pt x="2301" y="0"/>
                  </a:lnTo>
                  <a:lnTo>
                    <a:pt x="2204" y="8"/>
                  </a:lnTo>
                  <a:lnTo>
                    <a:pt x="2121" y="22"/>
                  </a:lnTo>
                  <a:lnTo>
                    <a:pt x="2047" y="49"/>
                  </a:lnTo>
                  <a:lnTo>
                    <a:pt x="1977" y="80"/>
                  </a:lnTo>
                  <a:lnTo>
                    <a:pt x="1921" y="115"/>
                  </a:lnTo>
                  <a:lnTo>
                    <a:pt x="1873" y="146"/>
                  </a:lnTo>
                  <a:lnTo>
                    <a:pt x="1838" y="173"/>
                  </a:lnTo>
                  <a:lnTo>
                    <a:pt x="1815" y="192"/>
                  </a:lnTo>
                  <a:lnTo>
                    <a:pt x="1809" y="200"/>
                  </a:lnTo>
                  <a:close/>
                </a:path>
              </a:pathLst>
            </a:custGeom>
            <a:solidFill>
              <a:srgbClr val="5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 rot="20788800">
              <a:off x="3080160" y="2242800"/>
              <a:ext cx="2984040" cy="3514680"/>
            </a:xfrm>
            <a:custGeom>
              <a:avLst/>
              <a:gdLst>
                <a:gd name="textAreaLeft" fmla="*/ 0 w 2984040"/>
                <a:gd name="textAreaRight" fmla="*/ 2984400 w 2984040"/>
                <a:gd name="textAreaTop" fmla="*/ 0 h 3514680"/>
                <a:gd name="textAreaBottom" fmla="*/ 3515040 h 3514680"/>
              </a:gdLst>
              <a:ahLst/>
              <a:rect l="textAreaLeft" t="textAreaTop" r="textAreaRight" b="textAreaBottom"/>
              <a:pathLst>
                <a:path w="4478" h="4427">
                  <a:moveTo>
                    <a:pt x="1023" y="229"/>
                  </a:moveTo>
                  <a:lnTo>
                    <a:pt x="1729" y="142"/>
                  </a:lnTo>
                  <a:lnTo>
                    <a:pt x="1867" y="56"/>
                  </a:lnTo>
                  <a:lnTo>
                    <a:pt x="1874" y="51"/>
                  </a:lnTo>
                  <a:lnTo>
                    <a:pt x="1905" y="39"/>
                  </a:lnTo>
                  <a:lnTo>
                    <a:pt x="1954" y="23"/>
                  </a:lnTo>
                  <a:lnTo>
                    <a:pt x="2024" y="12"/>
                  </a:lnTo>
                  <a:lnTo>
                    <a:pt x="2113" y="0"/>
                  </a:lnTo>
                  <a:lnTo>
                    <a:pt x="2223" y="0"/>
                  </a:lnTo>
                  <a:lnTo>
                    <a:pt x="2355" y="12"/>
                  </a:lnTo>
                  <a:lnTo>
                    <a:pt x="2508" y="43"/>
                  </a:lnTo>
                  <a:lnTo>
                    <a:pt x="2648" y="78"/>
                  </a:lnTo>
                  <a:lnTo>
                    <a:pt x="2755" y="114"/>
                  </a:lnTo>
                  <a:lnTo>
                    <a:pt x="2828" y="147"/>
                  </a:lnTo>
                  <a:lnTo>
                    <a:pt x="2881" y="182"/>
                  </a:lnTo>
                  <a:lnTo>
                    <a:pt x="2908" y="210"/>
                  </a:lnTo>
                  <a:lnTo>
                    <a:pt x="2925" y="235"/>
                  </a:lnTo>
                  <a:lnTo>
                    <a:pt x="2931" y="252"/>
                  </a:lnTo>
                  <a:lnTo>
                    <a:pt x="2935" y="264"/>
                  </a:lnTo>
                  <a:lnTo>
                    <a:pt x="3009" y="378"/>
                  </a:lnTo>
                  <a:lnTo>
                    <a:pt x="3026" y="382"/>
                  </a:lnTo>
                  <a:lnTo>
                    <a:pt x="3078" y="398"/>
                  </a:lnTo>
                  <a:lnTo>
                    <a:pt x="3154" y="421"/>
                  </a:lnTo>
                  <a:lnTo>
                    <a:pt x="3249" y="452"/>
                  </a:lnTo>
                  <a:lnTo>
                    <a:pt x="3346" y="485"/>
                  </a:lnTo>
                  <a:lnTo>
                    <a:pt x="3445" y="524"/>
                  </a:lnTo>
                  <a:lnTo>
                    <a:pt x="3532" y="562"/>
                  </a:lnTo>
                  <a:lnTo>
                    <a:pt x="3600" y="601"/>
                  </a:lnTo>
                  <a:lnTo>
                    <a:pt x="3677" y="687"/>
                  </a:lnTo>
                  <a:lnTo>
                    <a:pt x="3796" y="849"/>
                  </a:lnTo>
                  <a:lnTo>
                    <a:pt x="3935" y="1063"/>
                  </a:lnTo>
                  <a:lnTo>
                    <a:pt x="4088" y="1301"/>
                  </a:lnTo>
                  <a:lnTo>
                    <a:pt x="4230" y="1532"/>
                  </a:lnTo>
                  <a:lnTo>
                    <a:pt x="4354" y="1732"/>
                  </a:lnTo>
                  <a:lnTo>
                    <a:pt x="4437" y="1871"/>
                  </a:lnTo>
                  <a:lnTo>
                    <a:pt x="4470" y="1926"/>
                  </a:lnTo>
                  <a:lnTo>
                    <a:pt x="4472" y="1933"/>
                  </a:lnTo>
                  <a:lnTo>
                    <a:pt x="4478" y="1961"/>
                  </a:lnTo>
                  <a:lnTo>
                    <a:pt x="4478" y="2005"/>
                  </a:lnTo>
                  <a:lnTo>
                    <a:pt x="4472" y="2067"/>
                  </a:lnTo>
                  <a:lnTo>
                    <a:pt x="4447" y="2143"/>
                  </a:lnTo>
                  <a:lnTo>
                    <a:pt x="4404" y="2234"/>
                  </a:lnTo>
                  <a:lnTo>
                    <a:pt x="4333" y="2339"/>
                  </a:lnTo>
                  <a:lnTo>
                    <a:pt x="4230" y="2457"/>
                  </a:lnTo>
                  <a:lnTo>
                    <a:pt x="4110" y="2558"/>
                  </a:lnTo>
                  <a:lnTo>
                    <a:pt x="3995" y="2624"/>
                  </a:lnTo>
                  <a:lnTo>
                    <a:pt x="3889" y="2661"/>
                  </a:lnTo>
                  <a:lnTo>
                    <a:pt x="3798" y="2676"/>
                  </a:lnTo>
                  <a:lnTo>
                    <a:pt x="3718" y="2674"/>
                  </a:lnTo>
                  <a:lnTo>
                    <a:pt x="3658" y="2663"/>
                  </a:lnTo>
                  <a:lnTo>
                    <a:pt x="3617" y="2649"/>
                  </a:lnTo>
                  <a:lnTo>
                    <a:pt x="3602" y="2639"/>
                  </a:lnTo>
                  <a:lnTo>
                    <a:pt x="3398" y="2306"/>
                  </a:lnTo>
                  <a:lnTo>
                    <a:pt x="3214" y="4194"/>
                  </a:lnTo>
                  <a:lnTo>
                    <a:pt x="3193" y="4212"/>
                  </a:lnTo>
                  <a:lnTo>
                    <a:pt x="3131" y="4257"/>
                  </a:lnTo>
                  <a:lnTo>
                    <a:pt x="3032" y="4315"/>
                  </a:lnTo>
                  <a:lnTo>
                    <a:pt x="2896" y="4373"/>
                  </a:lnTo>
                  <a:lnTo>
                    <a:pt x="2724" y="4414"/>
                  </a:lnTo>
                  <a:lnTo>
                    <a:pt x="2520" y="4427"/>
                  </a:lnTo>
                  <a:lnTo>
                    <a:pt x="2283" y="4396"/>
                  </a:lnTo>
                  <a:lnTo>
                    <a:pt x="2018" y="4309"/>
                  </a:lnTo>
                  <a:lnTo>
                    <a:pt x="1745" y="4200"/>
                  </a:lnTo>
                  <a:lnTo>
                    <a:pt x="1494" y="4127"/>
                  </a:lnTo>
                  <a:lnTo>
                    <a:pt x="1268" y="4076"/>
                  </a:lnTo>
                  <a:lnTo>
                    <a:pt x="1074" y="4047"/>
                  </a:lnTo>
                  <a:lnTo>
                    <a:pt x="913" y="4028"/>
                  </a:lnTo>
                  <a:lnTo>
                    <a:pt x="795" y="4016"/>
                  </a:lnTo>
                  <a:lnTo>
                    <a:pt x="721" y="4004"/>
                  </a:lnTo>
                  <a:lnTo>
                    <a:pt x="700" y="3987"/>
                  </a:lnTo>
                  <a:lnTo>
                    <a:pt x="948" y="2127"/>
                  </a:lnTo>
                  <a:lnTo>
                    <a:pt x="649" y="2399"/>
                  </a:lnTo>
                  <a:lnTo>
                    <a:pt x="641" y="2399"/>
                  </a:lnTo>
                  <a:lnTo>
                    <a:pt x="622" y="2399"/>
                  </a:lnTo>
                  <a:lnTo>
                    <a:pt x="589" y="2395"/>
                  </a:lnTo>
                  <a:lnTo>
                    <a:pt x="544" y="2387"/>
                  </a:lnTo>
                  <a:lnTo>
                    <a:pt x="486" y="2366"/>
                  </a:lnTo>
                  <a:lnTo>
                    <a:pt x="416" y="2333"/>
                  </a:lnTo>
                  <a:lnTo>
                    <a:pt x="333" y="2282"/>
                  </a:lnTo>
                  <a:lnTo>
                    <a:pt x="238" y="2215"/>
                  </a:lnTo>
                  <a:lnTo>
                    <a:pt x="147" y="2127"/>
                  </a:lnTo>
                  <a:lnTo>
                    <a:pt x="83" y="2038"/>
                  </a:lnTo>
                  <a:lnTo>
                    <a:pt x="40" y="1947"/>
                  </a:lnTo>
                  <a:lnTo>
                    <a:pt x="17" y="1862"/>
                  </a:lnTo>
                  <a:lnTo>
                    <a:pt x="2" y="1784"/>
                  </a:lnTo>
                  <a:lnTo>
                    <a:pt x="0" y="1726"/>
                  </a:lnTo>
                  <a:lnTo>
                    <a:pt x="2" y="1685"/>
                  </a:lnTo>
                  <a:lnTo>
                    <a:pt x="4" y="1672"/>
                  </a:lnTo>
                  <a:lnTo>
                    <a:pt x="40" y="1608"/>
                  </a:lnTo>
                  <a:lnTo>
                    <a:pt x="141" y="1447"/>
                  </a:lnTo>
                  <a:lnTo>
                    <a:pt x="285" y="1216"/>
                  </a:lnTo>
                  <a:lnTo>
                    <a:pt x="455" y="954"/>
                  </a:lnTo>
                  <a:lnTo>
                    <a:pt x="632" y="688"/>
                  </a:lnTo>
                  <a:lnTo>
                    <a:pt x="798" y="458"/>
                  </a:lnTo>
                  <a:lnTo>
                    <a:pt x="934" y="293"/>
                  </a:lnTo>
                  <a:lnTo>
                    <a:pt x="1023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 rot="20788800">
              <a:off x="3332520" y="2725200"/>
              <a:ext cx="366120" cy="122580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1225800"/>
                <a:gd name="textAreaBottom" fmla="*/ 1225800 h 1225800"/>
              </a:gdLst>
              <a:ahLst/>
              <a:rect l="textAreaLeft" t="textAreaTop" r="textAreaRight" b="textAreaBottom"/>
              <a:pathLst>
                <a:path w="551" h="1544">
                  <a:moveTo>
                    <a:pt x="326" y="0"/>
                  </a:moveTo>
                  <a:lnTo>
                    <a:pt x="333" y="17"/>
                  </a:lnTo>
                  <a:lnTo>
                    <a:pt x="359" y="64"/>
                  </a:lnTo>
                  <a:lnTo>
                    <a:pt x="392" y="134"/>
                  </a:lnTo>
                  <a:lnTo>
                    <a:pt x="432" y="217"/>
                  </a:lnTo>
                  <a:lnTo>
                    <a:pt x="473" y="304"/>
                  </a:lnTo>
                  <a:lnTo>
                    <a:pt x="510" y="394"/>
                  </a:lnTo>
                  <a:lnTo>
                    <a:pt x="535" y="471"/>
                  </a:lnTo>
                  <a:lnTo>
                    <a:pt x="551" y="531"/>
                  </a:lnTo>
                  <a:lnTo>
                    <a:pt x="549" y="605"/>
                  </a:lnTo>
                  <a:lnTo>
                    <a:pt x="541" y="725"/>
                  </a:lnTo>
                  <a:lnTo>
                    <a:pt x="529" y="875"/>
                  </a:lnTo>
                  <a:lnTo>
                    <a:pt x="516" y="1036"/>
                  </a:lnTo>
                  <a:lnTo>
                    <a:pt x="500" y="1189"/>
                  </a:lnTo>
                  <a:lnTo>
                    <a:pt x="489" y="1321"/>
                  </a:lnTo>
                  <a:lnTo>
                    <a:pt x="479" y="1412"/>
                  </a:lnTo>
                  <a:lnTo>
                    <a:pt x="477" y="1447"/>
                  </a:lnTo>
                  <a:lnTo>
                    <a:pt x="380" y="1544"/>
                  </a:lnTo>
                  <a:lnTo>
                    <a:pt x="374" y="1516"/>
                  </a:lnTo>
                  <a:lnTo>
                    <a:pt x="359" y="1447"/>
                  </a:lnTo>
                  <a:lnTo>
                    <a:pt x="337" y="1344"/>
                  </a:lnTo>
                  <a:lnTo>
                    <a:pt x="312" y="1226"/>
                  </a:lnTo>
                  <a:lnTo>
                    <a:pt x="285" y="1098"/>
                  </a:lnTo>
                  <a:lnTo>
                    <a:pt x="258" y="977"/>
                  </a:lnTo>
                  <a:lnTo>
                    <a:pt x="235" y="875"/>
                  </a:lnTo>
                  <a:lnTo>
                    <a:pt x="217" y="805"/>
                  </a:lnTo>
                  <a:lnTo>
                    <a:pt x="194" y="747"/>
                  </a:lnTo>
                  <a:lnTo>
                    <a:pt x="165" y="690"/>
                  </a:lnTo>
                  <a:lnTo>
                    <a:pt x="128" y="632"/>
                  </a:lnTo>
                  <a:lnTo>
                    <a:pt x="93" y="582"/>
                  </a:lnTo>
                  <a:lnTo>
                    <a:pt x="56" y="533"/>
                  </a:lnTo>
                  <a:lnTo>
                    <a:pt x="27" y="496"/>
                  </a:lnTo>
                  <a:lnTo>
                    <a:pt x="6" y="473"/>
                  </a:lnTo>
                  <a:lnTo>
                    <a:pt x="0" y="465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 rot="20788800">
              <a:off x="5130000" y="2557800"/>
              <a:ext cx="356760" cy="113328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535" h="1427">
                  <a:moveTo>
                    <a:pt x="228" y="0"/>
                  </a:moveTo>
                  <a:lnTo>
                    <a:pt x="221" y="15"/>
                  </a:lnTo>
                  <a:lnTo>
                    <a:pt x="201" y="64"/>
                  </a:lnTo>
                  <a:lnTo>
                    <a:pt x="174" y="132"/>
                  </a:lnTo>
                  <a:lnTo>
                    <a:pt x="143" y="215"/>
                  </a:lnTo>
                  <a:lnTo>
                    <a:pt x="108" y="302"/>
                  </a:lnTo>
                  <a:lnTo>
                    <a:pt x="79" y="390"/>
                  </a:lnTo>
                  <a:lnTo>
                    <a:pt x="56" y="467"/>
                  </a:lnTo>
                  <a:lnTo>
                    <a:pt x="44" y="527"/>
                  </a:lnTo>
                  <a:lnTo>
                    <a:pt x="35" y="597"/>
                  </a:lnTo>
                  <a:lnTo>
                    <a:pt x="27" y="708"/>
                  </a:lnTo>
                  <a:lnTo>
                    <a:pt x="19" y="841"/>
                  </a:lnTo>
                  <a:lnTo>
                    <a:pt x="13" y="985"/>
                  </a:lnTo>
                  <a:lnTo>
                    <a:pt x="7" y="1121"/>
                  </a:lnTo>
                  <a:lnTo>
                    <a:pt x="4" y="1239"/>
                  </a:lnTo>
                  <a:lnTo>
                    <a:pt x="0" y="1320"/>
                  </a:lnTo>
                  <a:lnTo>
                    <a:pt x="0" y="1351"/>
                  </a:lnTo>
                  <a:lnTo>
                    <a:pt x="38" y="1427"/>
                  </a:lnTo>
                  <a:lnTo>
                    <a:pt x="46" y="1402"/>
                  </a:lnTo>
                  <a:lnTo>
                    <a:pt x="71" y="1336"/>
                  </a:lnTo>
                  <a:lnTo>
                    <a:pt x="106" y="1241"/>
                  </a:lnTo>
                  <a:lnTo>
                    <a:pt x="151" y="1130"/>
                  </a:lnTo>
                  <a:lnTo>
                    <a:pt x="194" y="1010"/>
                  </a:lnTo>
                  <a:lnTo>
                    <a:pt x="238" y="898"/>
                  </a:lnTo>
                  <a:lnTo>
                    <a:pt x="275" y="801"/>
                  </a:lnTo>
                  <a:lnTo>
                    <a:pt x="300" y="735"/>
                  </a:lnTo>
                  <a:lnTo>
                    <a:pt x="321" y="681"/>
                  </a:lnTo>
                  <a:lnTo>
                    <a:pt x="354" y="626"/>
                  </a:lnTo>
                  <a:lnTo>
                    <a:pt x="393" y="572"/>
                  </a:lnTo>
                  <a:lnTo>
                    <a:pt x="434" y="523"/>
                  </a:lnTo>
                  <a:lnTo>
                    <a:pt x="471" y="481"/>
                  </a:lnTo>
                  <a:lnTo>
                    <a:pt x="504" y="448"/>
                  </a:lnTo>
                  <a:lnTo>
                    <a:pt x="525" y="425"/>
                  </a:lnTo>
                  <a:lnTo>
                    <a:pt x="535" y="419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 rot="20788800">
              <a:off x="3188520" y="3173400"/>
              <a:ext cx="442080" cy="106848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663" h="1346">
                  <a:moveTo>
                    <a:pt x="292" y="0"/>
                  </a:moveTo>
                  <a:lnTo>
                    <a:pt x="296" y="2"/>
                  </a:lnTo>
                  <a:lnTo>
                    <a:pt x="310" y="9"/>
                  </a:lnTo>
                  <a:lnTo>
                    <a:pt x="329" y="25"/>
                  </a:lnTo>
                  <a:lnTo>
                    <a:pt x="356" y="48"/>
                  </a:lnTo>
                  <a:lnTo>
                    <a:pt x="384" y="77"/>
                  </a:lnTo>
                  <a:lnTo>
                    <a:pt x="415" y="116"/>
                  </a:lnTo>
                  <a:lnTo>
                    <a:pt x="444" y="163"/>
                  </a:lnTo>
                  <a:lnTo>
                    <a:pt x="473" y="223"/>
                  </a:lnTo>
                  <a:lnTo>
                    <a:pt x="502" y="304"/>
                  </a:lnTo>
                  <a:lnTo>
                    <a:pt x="539" y="421"/>
                  </a:lnTo>
                  <a:lnTo>
                    <a:pt x="576" y="558"/>
                  </a:lnTo>
                  <a:lnTo>
                    <a:pt x="612" y="706"/>
                  </a:lnTo>
                  <a:lnTo>
                    <a:pt x="640" y="847"/>
                  </a:lnTo>
                  <a:lnTo>
                    <a:pt x="659" y="973"/>
                  </a:lnTo>
                  <a:lnTo>
                    <a:pt x="663" y="1072"/>
                  </a:lnTo>
                  <a:lnTo>
                    <a:pt x="649" y="1132"/>
                  </a:lnTo>
                  <a:lnTo>
                    <a:pt x="482" y="1346"/>
                  </a:lnTo>
                  <a:lnTo>
                    <a:pt x="0" y="457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 rot="20788800">
              <a:off x="5258520" y="2905920"/>
              <a:ext cx="509040" cy="1060560"/>
            </a:xfrm>
            <a:custGeom>
              <a:avLst/>
              <a:gdLst>
                <a:gd name="textAreaLeft" fmla="*/ 0 w 509040"/>
                <a:gd name="textAreaRight" fmla="*/ 509400 w 509040"/>
                <a:gd name="textAreaTop" fmla="*/ 0 h 1060560"/>
                <a:gd name="textAreaBottom" fmla="*/ 1060920 h 1060560"/>
              </a:gdLst>
              <a:ahLst/>
              <a:rect l="textAreaLeft" t="textAreaTop" r="textAreaRight" b="textAreaBottom"/>
              <a:pathLst>
                <a:path w="764" h="1336">
                  <a:moveTo>
                    <a:pt x="504" y="0"/>
                  </a:moveTo>
                  <a:lnTo>
                    <a:pt x="499" y="0"/>
                  </a:lnTo>
                  <a:lnTo>
                    <a:pt x="487" y="3"/>
                  </a:lnTo>
                  <a:lnTo>
                    <a:pt x="469" y="11"/>
                  </a:lnTo>
                  <a:lnTo>
                    <a:pt x="448" y="29"/>
                  </a:lnTo>
                  <a:lnTo>
                    <a:pt x="421" y="50"/>
                  </a:lnTo>
                  <a:lnTo>
                    <a:pt x="394" y="83"/>
                  </a:lnTo>
                  <a:lnTo>
                    <a:pt x="363" y="124"/>
                  </a:lnTo>
                  <a:lnTo>
                    <a:pt x="334" y="178"/>
                  </a:lnTo>
                  <a:lnTo>
                    <a:pt x="293" y="257"/>
                  </a:lnTo>
                  <a:lnTo>
                    <a:pt x="243" y="374"/>
                  </a:lnTo>
                  <a:lnTo>
                    <a:pt x="184" y="510"/>
                  </a:lnTo>
                  <a:lnTo>
                    <a:pt x="128" y="653"/>
                  </a:lnTo>
                  <a:lnTo>
                    <a:pt x="72" y="791"/>
                  </a:lnTo>
                  <a:lnTo>
                    <a:pt x="29" y="911"/>
                  </a:lnTo>
                  <a:lnTo>
                    <a:pt x="2" y="998"/>
                  </a:lnTo>
                  <a:lnTo>
                    <a:pt x="0" y="1043"/>
                  </a:lnTo>
                  <a:lnTo>
                    <a:pt x="150" y="1336"/>
                  </a:lnTo>
                  <a:lnTo>
                    <a:pt x="487" y="880"/>
                  </a:lnTo>
                  <a:lnTo>
                    <a:pt x="764" y="453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 rot="20788800">
              <a:off x="3087000" y="3600720"/>
              <a:ext cx="452880" cy="80820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678" h="1018">
                  <a:moveTo>
                    <a:pt x="225" y="0"/>
                  </a:moveTo>
                  <a:lnTo>
                    <a:pt x="4" y="339"/>
                  </a:lnTo>
                  <a:lnTo>
                    <a:pt x="2" y="349"/>
                  </a:lnTo>
                  <a:lnTo>
                    <a:pt x="0" y="382"/>
                  </a:lnTo>
                  <a:lnTo>
                    <a:pt x="2" y="431"/>
                  </a:lnTo>
                  <a:lnTo>
                    <a:pt x="13" y="495"/>
                  </a:lnTo>
                  <a:lnTo>
                    <a:pt x="33" y="564"/>
                  </a:lnTo>
                  <a:lnTo>
                    <a:pt x="68" y="642"/>
                  </a:lnTo>
                  <a:lnTo>
                    <a:pt x="120" y="721"/>
                  </a:lnTo>
                  <a:lnTo>
                    <a:pt x="194" y="801"/>
                  </a:lnTo>
                  <a:lnTo>
                    <a:pt x="271" y="867"/>
                  </a:lnTo>
                  <a:lnTo>
                    <a:pt x="343" y="921"/>
                  </a:lnTo>
                  <a:lnTo>
                    <a:pt x="405" y="958"/>
                  </a:lnTo>
                  <a:lnTo>
                    <a:pt x="457" y="985"/>
                  </a:lnTo>
                  <a:lnTo>
                    <a:pt x="498" y="1001"/>
                  </a:lnTo>
                  <a:lnTo>
                    <a:pt x="531" y="1012"/>
                  </a:lnTo>
                  <a:lnTo>
                    <a:pt x="550" y="1016"/>
                  </a:lnTo>
                  <a:lnTo>
                    <a:pt x="558" y="1018"/>
                  </a:lnTo>
                  <a:lnTo>
                    <a:pt x="678" y="869"/>
                  </a:lnTo>
                  <a:lnTo>
                    <a:pt x="665" y="846"/>
                  </a:lnTo>
                  <a:lnTo>
                    <a:pt x="636" y="789"/>
                  </a:lnTo>
                  <a:lnTo>
                    <a:pt x="591" y="706"/>
                  </a:lnTo>
                  <a:lnTo>
                    <a:pt x="541" y="613"/>
                  </a:lnTo>
                  <a:lnTo>
                    <a:pt x="488" y="516"/>
                  </a:lnTo>
                  <a:lnTo>
                    <a:pt x="442" y="432"/>
                  </a:lnTo>
                  <a:lnTo>
                    <a:pt x="407" y="368"/>
                  </a:lnTo>
                  <a:lnTo>
                    <a:pt x="391" y="339"/>
                  </a:lnTo>
                  <a:lnTo>
                    <a:pt x="378" y="316"/>
                  </a:lnTo>
                  <a:lnTo>
                    <a:pt x="356" y="275"/>
                  </a:lnTo>
                  <a:lnTo>
                    <a:pt x="329" y="219"/>
                  </a:lnTo>
                  <a:lnTo>
                    <a:pt x="300" y="159"/>
                  </a:lnTo>
                  <a:lnTo>
                    <a:pt x="271" y="99"/>
                  </a:lnTo>
                  <a:lnTo>
                    <a:pt x="248" y="47"/>
                  </a:lnTo>
                  <a:lnTo>
                    <a:pt x="230" y="1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 rot="20788800">
              <a:off x="5445000" y="3264120"/>
              <a:ext cx="518400" cy="7858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778" h="989">
                  <a:moveTo>
                    <a:pt x="593" y="0"/>
                  </a:moveTo>
                  <a:lnTo>
                    <a:pt x="778" y="359"/>
                  </a:lnTo>
                  <a:lnTo>
                    <a:pt x="776" y="368"/>
                  </a:lnTo>
                  <a:lnTo>
                    <a:pt x="774" y="401"/>
                  </a:lnTo>
                  <a:lnTo>
                    <a:pt x="764" y="448"/>
                  </a:lnTo>
                  <a:lnTo>
                    <a:pt x="750" y="510"/>
                  </a:lnTo>
                  <a:lnTo>
                    <a:pt x="723" y="578"/>
                  </a:lnTo>
                  <a:lnTo>
                    <a:pt x="684" y="653"/>
                  </a:lnTo>
                  <a:lnTo>
                    <a:pt x="630" y="729"/>
                  </a:lnTo>
                  <a:lnTo>
                    <a:pt x="560" y="805"/>
                  </a:lnTo>
                  <a:lnTo>
                    <a:pt x="475" y="867"/>
                  </a:lnTo>
                  <a:lnTo>
                    <a:pt x="390" y="915"/>
                  </a:lnTo>
                  <a:lnTo>
                    <a:pt x="305" y="950"/>
                  </a:lnTo>
                  <a:lnTo>
                    <a:pt x="225" y="973"/>
                  </a:lnTo>
                  <a:lnTo>
                    <a:pt x="153" y="985"/>
                  </a:lnTo>
                  <a:lnTo>
                    <a:pt x="97" y="989"/>
                  </a:lnTo>
                  <a:lnTo>
                    <a:pt x="58" y="985"/>
                  </a:lnTo>
                  <a:lnTo>
                    <a:pt x="43" y="977"/>
                  </a:lnTo>
                  <a:lnTo>
                    <a:pt x="0" y="857"/>
                  </a:lnTo>
                  <a:lnTo>
                    <a:pt x="16" y="834"/>
                  </a:lnTo>
                  <a:lnTo>
                    <a:pt x="60" y="776"/>
                  </a:lnTo>
                  <a:lnTo>
                    <a:pt x="122" y="692"/>
                  </a:lnTo>
                  <a:lnTo>
                    <a:pt x="196" y="599"/>
                  </a:lnTo>
                  <a:lnTo>
                    <a:pt x="268" y="500"/>
                  </a:lnTo>
                  <a:lnTo>
                    <a:pt x="334" y="415"/>
                  </a:lnTo>
                  <a:lnTo>
                    <a:pt x="380" y="351"/>
                  </a:lnTo>
                  <a:lnTo>
                    <a:pt x="405" y="324"/>
                  </a:lnTo>
                  <a:lnTo>
                    <a:pt x="417" y="300"/>
                  </a:lnTo>
                  <a:lnTo>
                    <a:pt x="442" y="262"/>
                  </a:lnTo>
                  <a:lnTo>
                    <a:pt x="471" y="207"/>
                  </a:lnTo>
                  <a:lnTo>
                    <a:pt x="506" y="151"/>
                  </a:lnTo>
                  <a:lnTo>
                    <a:pt x="537" y="91"/>
                  </a:lnTo>
                  <a:lnTo>
                    <a:pt x="566" y="44"/>
                  </a:lnTo>
                  <a:lnTo>
                    <a:pt x="586" y="10"/>
                  </a:lnTo>
                  <a:lnTo>
                    <a:pt x="593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 rot="20788800">
              <a:off x="3674520" y="2577960"/>
              <a:ext cx="537120" cy="2997000"/>
            </a:xfrm>
            <a:custGeom>
              <a:avLst/>
              <a:gdLst>
                <a:gd name="textAreaLeft" fmla="*/ 0 w 537120"/>
                <a:gd name="textAreaRight" fmla="*/ 537480 w 537120"/>
                <a:gd name="textAreaTop" fmla="*/ 0 h 2997000"/>
                <a:gd name="textAreaBottom" fmla="*/ 2997360 h 2997000"/>
              </a:gdLst>
              <a:ahLst/>
              <a:rect l="textAreaLeft" t="textAreaTop" r="textAreaRight" b="textAreaBottom"/>
              <a:pathLst>
                <a:path w="805" h="3775">
                  <a:moveTo>
                    <a:pt x="136" y="62"/>
                  </a:moveTo>
                  <a:lnTo>
                    <a:pt x="144" y="79"/>
                  </a:lnTo>
                  <a:lnTo>
                    <a:pt x="169" y="130"/>
                  </a:lnTo>
                  <a:lnTo>
                    <a:pt x="204" y="201"/>
                  </a:lnTo>
                  <a:lnTo>
                    <a:pt x="247" y="289"/>
                  </a:lnTo>
                  <a:lnTo>
                    <a:pt x="287" y="378"/>
                  </a:lnTo>
                  <a:lnTo>
                    <a:pt x="324" y="465"/>
                  </a:lnTo>
                  <a:lnTo>
                    <a:pt x="353" y="539"/>
                  </a:lnTo>
                  <a:lnTo>
                    <a:pt x="369" y="591"/>
                  </a:lnTo>
                  <a:lnTo>
                    <a:pt x="371" y="659"/>
                  </a:lnTo>
                  <a:lnTo>
                    <a:pt x="367" y="783"/>
                  </a:lnTo>
                  <a:lnTo>
                    <a:pt x="359" y="940"/>
                  </a:lnTo>
                  <a:lnTo>
                    <a:pt x="351" y="1117"/>
                  </a:lnTo>
                  <a:lnTo>
                    <a:pt x="340" y="1287"/>
                  </a:lnTo>
                  <a:lnTo>
                    <a:pt x="330" y="1437"/>
                  </a:lnTo>
                  <a:lnTo>
                    <a:pt x="318" y="1545"/>
                  </a:lnTo>
                  <a:lnTo>
                    <a:pt x="315" y="1598"/>
                  </a:lnTo>
                  <a:lnTo>
                    <a:pt x="295" y="1696"/>
                  </a:lnTo>
                  <a:lnTo>
                    <a:pt x="258" y="1943"/>
                  </a:lnTo>
                  <a:lnTo>
                    <a:pt x="208" y="2284"/>
                  </a:lnTo>
                  <a:lnTo>
                    <a:pt x="152" y="2672"/>
                  </a:lnTo>
                  <a:lnTo>
                    <a:pt x="95" y="3058"/>
                  </a:lnTo>
                  <a:lnTo>
                    <a:pt x="47" y="3395"/>
                  </a:lnTo>
                  <a:lnTo>
                    <a:pt x="12" y="3632"/>
                  </a:lnTo>
                  <a:lnTo>
                    <a:pt x="0" y="3723"/>
                  </a:lnTo>
                  <a:lnTo>
                    <a:pt x="349" y="3775"/>
                  </a:lnTo>
                  <a:lnTo>
                    <a:pt x="369" y="3645"/>
                  </a:lnTo>
                  <a:lnTo>
                    <a:pt x="425" y="3302"/>
                  </a:lnTo>
                  <a:lnTo>
                    <a:pt x="501" y="2813"/>
                  </a:lnTo>
                  <a:lnTo>
                    <a:pt x="590" y="2249"/>
                  </a:lnTo>
                  <a:lnTo>
                    <a:pt x="673" y="1677"/>
                  </a:lnTo>
                  <a:lnTo>
                    <a:pt x="747" y="1167"/>
                  </a:lnTo>
                  <a:lnTo>
                    <a:pt x="793" y="789"/>
                  </a:lnTo>
                  <a:lnTo>
                    <a:pt x="805" y="609"/>
                  </a:lnTo>
                  <a:lnTo>
                    <a:pt x="788" y="535"/>
                  </a:lnTo>
                  <a:lnTo>
                    <a:pt x="766" y="446"/>
                  </a:lnTo>
                  <a:lnTo>
                    <a:pt x="743" y="343"/>
                  </a:lnTo>
                  <a:lnTo>
                    <a:pt x="720" y="242"/>
                  </a:lnTo>
                  <a:lnTo>
                    <a:pt x="695" y="147"/>
                  </a:lnTo>
                  <a:lnTo>
                    <a:pt x="671" y="70"/>
                  </a:lnTo>
                  <a:lnTo>
                    <a:pt x="650" y="17"/>
                  </a:lnTo>
                  <a:lnTo>
                    <a:pt x="636" y="0"/>
                  </a:lnTo>
                  <a:lnTo>
                    <a:pt x="136" y="6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 rot="20788800">
              <a:off x="3903840" y="2290320"/>
              <a:ext cx="843120" cy="725400"/>
            </a:xfrm>
            <a:custGeom>
              <a:avLst/>
              <a:gdLst>
                <a:gd name="textAreaLeft" fmla="*/ 0 w 843120"/>
                <a:gd name="textAreaRight" fmla="*/ 843480 w 84312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1266" h="915">
                  <a:moveTo>
                    <a:pt x="0" y="237"/>
                  </a:moveTo>
                  <a:lnTo>
                    <a:pt x="0" y="229"/>
                  </a:lnTo>
                  <a:lnTo>
                    <a:pt x="6" y="211"/>
                  </a:lnTo>
                  <a:lnTo>
                    <a:pt x="18" y="184"/>
                  </a:lnTo>
                  <a:lnTo>
                    <a:pt x="37" y="155"/>
                  </a:lnTo>
                  <a:lnTo>
                    <a:pt x="62" y="120"/>
                  </a:lnTo>
                  <a:lnTo>
                    <a:pt x="101" y="89"/>
                  </a:lnTo>
                  <a:lnTo>
                    <a:pt x="150" y="60"/>
                  </a:lnTo>
                  <a:lnTo>
                    <a:pt x="214" y="41"/>
                  </a:lnTo>
                  <a:lnTo>
                    <a:pt x="278" y="25"/>
                  </a:lnTo>
                  <a:lnTo>
                    <a:pt x="334" y="14"/>
                  </a:lnTo>
                  <a:lnTo>
                    <a:pt x="384" y="6"/>
                  </a:lnTo>
                  <a:lnTo>
                    <a:pt x="433" y="2"/>
                  </a:lnTo>
                  <a:lnTo>
                    <a:pt x="477" y="0"/>
                  </a:lnTo>
                  <a:lnTo>
                    <a:pt x="526" y="4"/>
                  </a:lnTo>
                  <a:lnTo>
                    <a:pt x="578" y="8"/>
                  </a:lnTo>
                  <a:lnTo>
                    <a:pt x="640" y="18"/>
                  </a:lnTo>
                  <a:lnTo>
                    <a:pt x="702" y="27"/>
                  </a:lnTo>
                  <a:lnTo>
                    <a:pt x="764" y="39"/>
                  </a:lnTo>
                  <a:lnTo>
                    <a:pt x="822" y="52"/>
                  </a:lnTo>
                  <a:lnTo>
                    <a:pt x="880" y="66"/>
                  </a:lnTo>
                  <a:lnTo>
                    <a:pt x="931" y="78"/>
                  </a:lnTo>
                  <a:lnTo>
                    <a:pt x="975" y="91"/>
                  </a:lnTo>
                  <a:lnTo>
                    <a:pt x="1012" y="105"/>
                  </a:lnTo>
                  <a:lnTo>
                    <a:pt x="1043" y="118"/>
                  </a:lnTo>
                  <a:lnTo>
                    <a:pt x="1067" y="130"/>
                  </a:lnTo>
                  <a:lnTo>
                    <a:pt x="1090" y="142"/>
                  </a:lnTo>
                  <a:lnTo>
                    <a:pt x="1107" y="155"/>
                  </a:lnTo>
                  <a:lnTo>
                    <a:pt x="1125" y="171"/>
                  </a:lnTo>
                  <a:lnTo>
                    <a:pt x="1138" y="186"/>
                  </a:lnTo>
                  <a:lnTo>
                    <a:pt x="1156" y="206"/>
                  </a:lnTo>
                  <a:lnTo>
                    <a:pt x="1171" y="223"/>
                  </a:lnTo>
                  <a:lnTo>
                    <a:pt x="1191" y="246"/>
                  </a:lnTo>
                  <a:lnTo>
                    <a:pt x="1191" y="334"/>
                  </a:lnTo>
                  <a:lnTo>
                    <a:pt x="1193" y="337"/>
                  </a:lnTo>
                  <a:lnTo>
                    <a:pt x="1202" y="351"/>
                  </a:lnTo>
                  <a:lnTo>
                    <a:pt x="1214" y="368"/>
                  </a:lnTo>
                  <a:lnTo>
                    <a:pt x="1229" y="392"/>
                  </a:lnTo>
                  <a:lnTo>
                    <a:pt x="1243" y="415"/>
                  </a:lnTo>
                  <a:lnTo>
                    <a:pt x="1255" y="438"/>
                  </a:lnTo>
                  <a:lnTo>
                    <a:pt x="1262" y="458"/>
                  </a:lnTo>
                  <a:lnTo>
                    <a:pt x="1266" y="473"/>
                  </a:lnTo>
                  <a:lnTo>
                    <a:pt x="1260" y="485"/>
                  </a:lnTo>
                  <a:lnTo>
                    <a:pt x="1257" y="498"/>
                  </a:lnTo>
                  <a:lnTo>
                    <a:pt x="1249" y="512"/>
                  </a:lnTo>
                  <a:lnTo>
                    <a:pt x="1241" y="526"/>
                  </a:lnTo>
                  <a:lnTo>
                    <a:pt x="1231" y="539"/>
                  </a:lnTo>
                  <a:lnTo>
                    <a:pt x="1224" y="555"/>
                  </a:lnTo>
                  <a:lnTo>
                    <a:pt x="1218" y="572"/>
                  </a:lnTo>
                  <a:lnTo>
                    <a:pt x="1214" y="591"/>
                  </a:lnTo>
                  <a:lnTo>
                    <a:pt x="1208" y="611"/>
                  </a:lnTo>
                  <a:lnTo>
                    <a:pt x="1208" y="638"/>
                  </a:lnTo>
                  <a:lnTo>
                    <a:pt x="1208" y="669"/>
                  </a:lnTo>
                  <a:lnTo>
                    <a:pt x="1208" y="704"/>
                  </a:lnTo>
                  <a:lnTo>
                    <a:pt x="1208" y="735"/>
                  </a:lnTo>
                  <a:lnTo>
                    <a:pt x="1210" y="766"/>
                  </a:lnTo>
                  <a:lnTo>
                    <a:pt x="1210" y="791"/>
                  </a:lnTo>
                  <a:lnTo>
                    <a:pt x="1210" y="811"/>
                  </a:lnTo>
                  <a:lnTo>
                    <a:pt x="1206" y="826"/>
                  </a:lnTo>
                  <a:lnTo>
                    <a:pt x="1202" y="844"/>
                  </a:lnTo>
                  <a:lnTo>
                    <a:pt x="1198" y="859"/>
                  </a:lnTo>
                  <a:lnTo>
                    <a:pt x="1195" y="877"/>
                  </a:lnTo>
                  <a:lnTo>
                    <a:pt x="1189" y="890"/>
                  </a:lnTo>
                  <a:lnTo>
                    <a:pt x="1185" y="904"/>
                  </a:lnTo>
                  <a:lnTo>
                    <a:pt x="1181" y="911"/>
                  </a:lnTo>
                  <a:lnTo>
                    <a:pt x="1181" y="915"/>
                  </a:lnTo>
                  <a:lnTo>
                    <a:pt x="1167" y="904"/>
                  </a:lnTo>
                  <a:lnTo>
                    <a:pt x="1131" y="878"/>
                  </a:lnTo>
                  <a:lnTo>
                    <a:pt x="1078" y="842"/>
                  </a:lnTo>
                  <a:lnTo>
                    <a:pt x="1020" y="799"/>
                  </a:lnTo>
                  <a:lnTo>
                    <a:pt x="954" y="754"/>
                  </a:lnTo>
                  <a:lnTo>
                    <a:pt x="896" y="714"/>
                  </a:lnTo>
                  <a:lnTo>
                    <a:pt x="848" y="681"/>
                  </a:lnTo>
                  <a:lnTo>
                    <a:pt x="818" y="661"/>
                  </a:lnTo>
                  <a:lnTo>
                    <a:pt x="797" y="646"/>
                  </a:lnTo>
                  <a:lnTo>
                    <a:pt x="780" y="632"/>
                  </a:lnTo>
                  <a:lnTo>
                    <a:pt x="760" y="619"/>
                  </a:lnTo>
                  <a:lnTo>
                    <a:pt x="745" y="607"/>
                  </a:lnTo>
                  <a:lnTo>
                    <a:pt x="727" y="593"/>
                  </a:lnTo>
                  <a:lnTo>
                    <a:pt x="718" y="584"/>
                  </a:lnTo>
                  <a:lnTo>
                    <a:pt x="710" y="574"/>
                  </a:lnTo>
                  <a:lnTo>
                    <a:pt x="708" y="570"/>
                  </a:lnTo>
                  <a:lnTo>
                    <a:pt x="712" y="564"/>
                  </a:lnTo>
                  <a:lnTo>
                    <a:pt x="727" y="560"/>
                  </a:lnTo>
                  <a:lnTo>
                    <a:pt x="747" y="555"/>
                  </a:lnTo>
                  <a:lnTo>
                    <a:pt x="774" y="549"/>
                  </a:lnTo>
                  <a:lnTo>
                    <a:pt x="799" y="539"/>
                  </a:lnTo>
                  <a:lnTo>
                    <a:pt x="826" y="531"/>
                  </a:lnTo>
                  <a:lnTo>
                    <a:pt x="848" y="522"/>
                  </a:lnTo>
                  <a:lnTo>
                    <a:pt x="869" y="512"/>
                  </a:lnTo>
                  <a:lnTo>
                    <a:pt x="886" y="496"/>
                  </a:lnTo>
                  <a:lnTo>
                    <a:pt x="912" y="481"/>
                  </a:lnTo>
                  <a:lnTo>
                    <a:pt x="941" y="462"/>
                  </a:lnTo>
                  <a:lnTo>
                    <a:pt x="974" y="442"/>
                  </a:lnTo>
                  <a:lnTo>
                    <a:pt x="1001" y="419"/>
                  </a:lnTo>
                  <a:lnTo>
                    <a:pt x="1024" y="398"/>
                  </a:lnTo>
                  <a:lnTo>
                    <a:pt x="1039" y="374"/>
                  </a:lnTo>
                  <a:lnTo>
                    <a:pt x="1047" y="351"/>
                  </a:lnTo>
                  <a:lnTo>
                    <a:pt x="1043" y="324"/>
                  </a:lnTo>
                  <a:lnTo>
                    <a:pt x="1038" y="293"/>
                  </a:lnTo>
                  <a:lnTo>
                    <a:pt x="1024" y="258"/>
                  </a:lnTo>
                  <a:lnTo>
                    <a:pt x="999" y="221"/>
                  </a:lnTo>
                  <a:lnTo>
                    <a:pt x="958" y="184"/>
                  </a:lnTo>
                  <a:lnTo>
                    <a:pt x="902" y="151"/>
                  </a:lnTo>
                  <a:lnTo>
                    <a:pt x="822" y="120"/>
                  </a:lnTo>
                  <a:lnTo>
                    <a:pt x="718" y="99"/>
                  </a:lnTo>
                  <a:lnTo>
                    <a:pt x="609" y="81"/>
                  </a:lnTo>
                  <a:lnTo>
                    <a:pt x="526" y="74"/>
                  </a:lnTo>
                  <a:lnTo>
                    <a:pt x="462" y="70"/>
                  </a:lnTo>
                  <a:lnTo>
                    <a:pt x="417" y="72"/>
                  </a:lnTo>
                  <a:lnTo>
                    <a:pt x="384" y="74"/>
                  </a:lnTo>
                  <a:lnTo>
                    <a:pt x="365" y="80"/>
                  </a:lnTo>
                  <a:lnTo>
                    <a:pt x="353" y="85"/>
                  </a:lnTo>
                  <a:lnTo>
                    <a:pt x="349" y="91"/>
                  </a:lnTo>
                  <a:lnTo>
                    <a:pt x="336" y="95"/>
                  </a:lnTo>
                  <a:lnTo>
                    <a:pt x="316" y="107"/>
                  </a:lnTo>
                  <a:lnTo>
                    <a:pt x="289" y="122"/>
                  </a:lnTo>
                  <a:lnTo>
                    <a:pt x="264" y="145"/>
                  </a:lnTo>
                  <a:lnTo>
                    <a:pt x="237" y="167"/>
                  </a:lnTo>
                  <a:lnTo>
                    <a:pt x="217" y="192"/>
                  </a:lnTo>
                  <a:lnTo>
                    <a:pt x="206" y="215"/>
                  </a:lnTo>
                  <a:lnTo>
                    <a:pt x="208" y="241"/>
                  </a:lnTo>
                  <a:lnTo>
                    <a:pt x="227" y="270"/>
                  </a:lnTo>
                  <a:lnTo>
                    <a:pt x="270" y="310"/>
                  </a:lnTo>
                  <a:lnTo>
                    <a:pt x="326" y="357"/>
                  </a:lnTo>
                  <a:lnTo>
                    <a:pt x="390" y="409"/>
                  </a:lnTo>
                  <a:lnTo>
                    <a:pt x="450" y="458"/>
                  </a:lnTo>
                  <a:lnTo>
                    <a:pt x="506" y="504"/>
                  </a:lnTo>
                  <a:lnTo>
                    <a:pt x="543" y="541"/>
                  </a:lnTo>
                  <a:lnTo>
                    <a:pt x="559" y="568"/>
                  </a:lnTo>
                  <a:lnTo>
                    <a:pt x="551" y="582"/>
                  </a:lnTo>
                  <a:lnTo>
                    <a:pt x="535" y="591"/>
                  </a:lnTo>
                  <a:lnTo>
                    <a:pt x="510" y="597"/>
                  </a:lnTo>
                  <a:lnTo>
                    <a:pt x="483" y="603"/>
                  </a:lnTo>
                  <a:lnTo>
                    <a:pt x="452" y="607"/>
                  </a:lnTo>
                  <a:lnTo>
                    <a:pt x="421" y="615"/>
                  </a:lnTo>
                  <a:lnTo>
                    <a:pt x="394" y="626"/>
                  </a:lnTo>
                  <a:lnTo>
                    <a:pt x="373" y="644"/>
                  </a:lnTo>
                  <a:lnTo>
                    <a:pt x="351" y="661"/>
                  </a:lnTo>
                  <a:lnTo>
                    <a:pt x="336" y="683"/>
                  </a:lnTo>
                  <a:lnTo>
                    <a:pt x="320" y="700"/>
                  </a:lnTo>
                  <a:lnTo>
                    <a:pt x="307" y="721"/>
                  </a:lnTo>
                  <a:lnTo>
                    <a:pt x="293" y="737"/>
                  </a:lnTo>
                  <a:lnTo>
                    <a:pt x="279" y="752"/>
                  </a:lnTo>
                  <a:lnTo>
                    <a:pt x="262" y="764"/>
                  </a:lnTo>
                  <a:lnTo>
                    <a:pt x="247" y="776"/>
                  </a:lnTo>
                  <a:lnTo>
                    <a:pt x="225" y="782"/>
                  </a:lnTo>
                  <a:lnTo>
                    <a:pt x="208" y="791"/>
                  </a:lnTo>
                  <a:lnTo>
                    <a:pt x="190" y="799"/>
                  </a:lnTo>
                  <a:lnTo>
                    <a:pt x="177" y="809"/>
                  </a:lnTo>
                  <a:lnTo>
                    <a:pt x="163" y="814"/>
                  </a:lnTo>
                  <a:lnTo>
                    <a:pt x="152" y="820"/>
                  </a:lnTo>
                  <a:lnTo>
                    <a:pt x="142" y="824"/>
                  </a:lnTo>
                  <a:lnTo>
                    <a:pt x="132" y="828"/>
                  </a:lnTo>
                  <a:lnTo>
                    <a:pt x="121" y="818"/>
                  </a:lnTo>
                  <a:lnTo>
                    <a:pt x="111" y="797"/>
                  </a:lnTo>
                  <a:lnTo>
                    <a:pt x="103" y="766"/>
                  </a:lnTo>
                  <a:lnTo>
                    <a:pt x="97" y="729"/>
                  </a:lnTo>
                  <a:lnTo>
                    <a:pt x="89" y="688"/>
                  </a:lnTo>
                  <a:lnTo>
                    <a:pt x="86" y="648"/>
                  </a:lnTo>
                  <a:lnTo>
                    <a:pt x="86" y="611"/>
                  </a:lnTo>
                  <a:lnTo>
                    <a:pt x="88" y="580"/>
                  </a:lnTo>
                  <a:lnTo>
                    <a:pt x="91" y="549"/>
                  </a:lnTo>
                  <a:lnTo>
                    <a:pt x="97" y="526"/>
                  </a:lnTo>
                  <a:lnTo>
                    <a:pt x="103" y="502"/>
                  </a:lnTo>
                  <a:lnTo>
                    <a:pt x="111" y="485"/>
                  </a:lnTo>
                  <a:lnTo>
                    <a:pt x="115" y="467"/>
                  </a:lnTo>
                  <a:lnTo>
                    <a:pt x="121" y="454"/>
                  </a:lnTo>
                  <a:lnTo>
                    <a:pt x="122" y="440"/>
                  </a:lnTo>
                  <a:lnTo>
                    <a:pt x="124" y="431"/>
                  </a:lnTo>
                  <a:lnTo>
                    <a:pt x="115" y="415"/>
                  </a:lnTo>
                  <a:lnTo>
                    <a:pt x="101" y="400"/>
                  </a:lnTo>
                  <a:lnTo>
                    <a:pt x="78" y="380"/>
                  </a:lnTo>
                  <a:lnTo>
                    <a:pt x="57" y="361"/>
                  </a:lnTo>
                  <a:lnTo>
                    <a:pt x="31" y="334"/>
                  </a:lnTo>
                  <a:lnTo>
                    <a:pt x="14" y="306"/>
                  </a:lnTo>
                  <a:lnTo>
                    <a:pt x="0" y="272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 rot="20788800">
              <a:off x="3937320" y="2481480"/>
              <a:ext cx="624600" cy="31082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938" h="3917">
                  <a:moveTo>
                    <a:pt x="306" y="19"/>
                  </a:moveTo>
                  <a:lnTo>
                    <a:pt x="421" y="0"/>
                  </a:lnTo>
                  <a:lnTo>
                    <a:pt x="417" y="2"/>
                  </a:lnTo>
                  <a:lnTo>
                    <a:pt x="411" y="11"/>
                  </a:lnTo>
                  <a:lnTo>
                    <a:pt x="401" y="25"/>
                  </a:lnTo>
                  <a:lnTo>
                    <a:pt x="395" y="44"/>
                  </a:lnTo>
                  <a:lnTo>
                    <a:pt x="386" y="64"/>
                  </a:lnTo>
                  <a:lnTo>
                    <a:pt x="384" y="85"/>
                  </a:lnTo>
                  <a:lnTo>
                    <a:pt x="386" y="106"/>
                  </a:lnTo>
                  <a:lnTo>
                    <a:pt x="395" y="126"/>
                  </a:lnTo>
                  <a:lnTo>
                    <a:pt x="405" y="143"/>
                  </a:lnTo>
                  <a:lnTo>
                    <a:pt x="421" y="161"/>
                  </a:lnTo>
                  <a:lnTo>
                    <a:pt x="436" y="180"/>
                  </a:lnTo>
                  <a:lnTo>
                    <a:pt x="454" y="201"/>
                  </a:lnTo>
                  <a:lnTo>
                    <a:pt x="469" y="221"/>
                  </a:lnTo>
                  <a:lnTo>
                    <a:pt x="485" y="240"/>
                  </a:lnTo>
                  <a:lnTo>
                    <a:pt x="498" y="258"/>
                  </a:lnTo>
                  <a:lnTo>
                    <a:pt x="512" y="277"/>
                  </a:lnTo>
                  <a:lnTo>
                    <a:pt x="518" y="293"/>
                  </a:lnTo>
                  <a:lnTo>
                    <a:pt x="518" y="310"/>
                  </a:lnTo>
                  <a:lnTo>
                    <a:pt x="512" y="327"/>
                  </a:lnTo>
                  <a:lnTo>
                    <a:pt x="506" y="347"/>
                  </a:lnTo>
                  <a:lnTo>
                    <a:pt x="496" y="364"/>
                  </a:lnTo>
                  <a:lnTo>
                    <a:pt x="489" y="384"/>
                  </a:lnTo>
                  <a:lnTo>
                    <a:pt x="483" y="403"/>
                  </a:lnTo>
                  <a:lnTo>
                    <a:pt x="483" y="426"/>
                  </a:lnTo>
                  <a:lnTo>
                    <a:pt x="485" y="453"/>
                  </a:lnTo>
                  <a:lnTo>
                    <a:pt x="489" y="492"/>
                  </a:lnTo>
                  <a:lnTo>
                    <a:pt x="494" y="537"/>
                  </a:lnTo>
                  <a:lnTo>
                    <a:pt x="502" y="587"/>
                  </a:lnTo>
                  <a:lnTo>
                    <a:pt x="506" y="632"/>
                  </a:lnTo>
                  <a:lnTo>
                    <a:pt x="512" y="671"/>
                  </a:lnTo>
                  <a:lnTo>
                    <a:pt x="516" y="698"/>
                  </a:lnTo>
                  <a:lnTo>
                    <a:pt x="518" y="709"/>
                  </a:lnTo>
                  <a:lnTo>
                    <a:pt x="708" y="657"/>
                  </a:lnTo>
                  <a:lnTo>
                    <a:pt x="822" y="517"/>
                  </a:lnTo>
                  <a:lnTo>
                    <a:pt x="938" y="490"/>
                  </a:lnTo>
                  <a:lnTo>
                    <a:pt x="448" y="3917"/>
                  </a:lnTo>
                  <a:lnTo>
                    <a:pt x="0" y="3835"/>
                  </a:lnTo>
                  <a:lnTo>
                    <a:pt x="19" y="3702"/>
                  </a:lnTo>
                  <a:lnTo>
                    <a:pt x="74" y="3354"/>
                  </a:lnTo>
                  <a:lnTo>
                    <a:pt x="147" y="2860"/>
                  </a:lnTo>
                  <a:lnTo>
                    <a:pt x="235" y="2292"/>
                  </a:lnTo>
                  <a:lnTo>
                    <a:pt x="320" y="1718"/>
                  </a:lnTo>
                  <a:lnTo>
                    <a:pt x="394" y="1214"/>
                  </a:lnTo>
                  <a:lnTo>
                    <a:pt x="444" y="847"/>
                  </a:lnTo>
                  <a:lnTo>
                    <a:pt x="459" y="692"/>
                  </a:lnTo>
                  <a:lnTo>
                    <a:pt x="446" y="640"/>
                  </a:lnTo>
                  <a:lnTo>
                    <a:pt x="426" y="552"/>
                  </a:lnTo>
                  <a:lnTo>
                    <a:pt x="401" y="444"/>
                  </a:lnTo>
                  <a:lnTo>
                    <a:pt x="376" y="325"/>
                  </a:lnTo>
                  <a:lnTo>
                    <a:pt x="347" y="209"/>
                  </a:lnTo>
                  <a:lnTo>
                    <a:pt x="326" y="112"/>
                  </a:lnTo>
                  <a:lnTo>
                    <a:pt x="310" y="44"/>
                  </a:lnTo>
                  <a:lnTo>
                    <a:pt x="306" y="19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 rot="20788800">
              <a:off x="3734280" y="3917520"/>
              <a:ext cx="262440" cy="16574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394" h="2089">
                  <a:moveTo>
                    <a:pt x="236" y="171"/>
                  </a:moveTo>
                  <a:lnTo>
                    <a:pt x="394" y="0"/>
                  </a:lnTo>
                  <a:lnTo>
                    <a:pt x="99" y="2073"/>
                  </a:lnTo>
                  <a:lnTo>
                    <a:pt x="0" y="2089"/>
                  </a:lnTo>
                  <a:lnTo>
                    <a:pt x="236" y="171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 rot="20788800">
              <a:off x="4340520" y="2775960"/>
              <a:ext cx="586080" cy="288288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2882880"/>
                <a:gd name="textAreaBottom" fmla="*/ 2883240 h 2882880"/>
              </a:gdLst>
              <a:ahLst/>
              <a:rect l="textAreaLeft" t="textAreaTop" r="textAreaRight" b="textAreaBottom"/>
              <a:pathLst>
                <a:path w="881" h="3632">
                  <a:moveTo>
                    <a:pt x="464" y="0"/>
                  </a:moveTo>
                  <a:lnTo>
                    <a:pt x="0" y="3471"/>
                  </a:lnTo>
                  <a:lnTo>
                    <a:pt x="413" y="3632"/>
                  </a:lnTo>
                  <a:lnTo>
                    <a:pt x="881" y="196"/>
                  </a:lnTo>
                  <a:lnTo>
                    <a:pt x="619" y="7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 rot="20788800">
              <a:off x="4627440" y="2528280"/>
              <a:ext cx="669960" cy="307332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07" h="3873">
                  <a:moveTo>
                    <a:pt x="472" y="472"/>
                  </a:moveTo>
                  <a:lnTo>
                    <a:pt x="0" y="3857"/>
                  </a:lnTo>
                  <a:lnTo>
                    <a:pt x="485" y="3873"/>
                  </a:lnTo>
                  <a:lnTo>
                    <a:pt x="499" y="3745"/>
                  </a:lnTo>
                  <a:lnTo>
                    <a:pt x="536" y="3413"/>
                  </a:lnTo>
                  <a:lnTo>
                    <a:pt x="588" y="2940"/>
                  </a:lnTo>
                  <a:lnTo>
                    <a:pt x="654" y="2399"/>
                  </a:lnTo>
                  <a:lnTo>
                    <a:pt x="718" y="1850"/>
                  </a:lnTo>
                  <a:lnTo>
                    <a:pt x="776" y="1365"/>
                  </a:lnTo>
                  <a:lnTo>
                    <a:pt x="821" y="1011"/>
                  </a:lnTo>
                  <a:lnTo>
                    <a:pt x="846" y="855"/>
                  </a:lnTo>
                  <a:lnTo>
                    <a:pt x="859" y="793"/>
                  </a:lnTo>
                  <a:lnTo>
                    <a:pt x="883" y="693"/>
                  </a:lnTo>
                  <a:lnTo>
                    <a:pt x="908" y="565"/>
                  </a:lnTo>
                  <a:lnTo>
                    <a:pt x="937" y="429"/>
                  </a:lnTo>
                  <a:lnTo>
                    <a:pt x="962" y="293"/>
                  </a:lnTo>
                  <a:lnTo>
                    <a:pt x="985" y="181"/>
                  </a:lnTo>
                  <a:lnTo>
                    <a:pt x="999" y="101"/>
                  </a:lnTo>
                  <a:lnTo>
                    <a:pt x="1007" y="72"/>
                  </a:lnTo>
                  <a:lnTo>
                    <a:pt x="795" y="0"/>
                  </a:lnTo>
                  <a:lnTo>
                    <a:pt x="791" y="2"/>
                  </a:lnTo>
                  <a:lnTo>
                    <a:pt x="786" y="12"/>
                  </a:lnTo>
                  <a:lnTo>
                    <a:pt x="776" y="26"/>
                  </a:lnTo>
                  <a:lnTo>
                    <a:pt x="768" y="45"/>
                  </a:lnTo>
                  <a:lnTo>
                    <a:pt x="757" y="64"/>
                  </a:lnTo>
                  <a:lnTo>
                    <a:pt x="751" y="88"/>
                  </a:lnTo>
                  <a:lnTo>
                    <a:pt x="745" y="111"/>
                  </a:lnTo>
                  <a:lnTo>
                    <a:pt x="747" y="136"/>
                  </a:lnTo>
                  <a:lnTo>
                    <a:pt x="745" y="163"/>
                  </a:lnTo>
                  <a:lnTo>
                    <a:pt x="745" y="206"/>
                  </a:lnTo>
                  <a:lnTo>
                    <a:pt x="741" y="256"/>
                  </a:lnTo>
                  <a:lnTo>
                    <a:pt x="737" y="313"/>
                  </a:lnTo>
                  <a:lnTo>
                    <a:pt x="731" y="367"/>
                  </a:lnTo>
                  <a:lnTo>
                    <a:pt x="726" y="423"/>
                  </a:lnTo>
                  <a:lnTo>
                    <a:pt x="718" y="470"/>
                  </a:lnTo>
                  <a:lnTo>
                    <a:pt x="712" y="510"/>
                  </a:lnTo>
                  <a:lnTo>
                    <a:pt x="700" y="537"/>
                  </a:lnTo>
                  <a:lnTo>
                    <a:pt x="691" y="559"/>
                  </a:lnTo>
                  <a:lnTo>
                    <a:pt x="679" y="576"/>
                  </a:lnTo>
                  <a:lnTo>
                    <a:pt x="669" y="590"/>
                  </a:lnTo>
                  <a:lnTo>
                    <a:pt x="658" y="598"/>
                  </a:lnTo>
                  <a:lnTo>
                    <a:pt x="650" y="605"/>
                  </a:lnTo>
                  <a:lnTo>
                    <a:pt x="644" y="607"/>
                  </a:lnTo>
                  <a:lnTo>
                    <a:pt x="644" y="609"/>
                  </a:lnTo>
                  <a:lnTo>
                    <a:pt x="472" y="472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 rot="20788800">
              <a:off x="4753080" y="3373560"/>
              <a:ext cx="276840" cy="3571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415" h="450">
                  <a:moveTo>
                    <a:pt x="101" y="0"/>
                  </a:moveTo>
                  <a:lnTo>
                    <a:pt x="351" y="37"/>
                  </a:lnTo>
                  <a:lnTo>
                    <a:pt x="323" y="83"/>
                  </a:lnTo>
                  <a:lnTo>
                    <a:pt x="374" y="72"/>
                  </a:lnTo>
                  <a:lnTo>
                    <a:pt x="415" y="167"/>
                  </a:lnTo>
                  <a:lnTo>
                    <a:pt x="345" y="215"/>
                  </a:lnTo>
                  <a:lnTo>
                    <a:pt x="337" y="219"/>
                  </a:lnTo>
                  <a:lnTo>
                    <a:pt x="325" y="231"/>
                  </a:lnTo>
                  <a:lnTo>
                    <a:pt x="320" y="238"/>
                  </a:lnTo>
                  <a:lnTo>
                    <a:pt x="318" y="252"/>
                  </a:lnTo>
                  <a:lnTo>
                    <a:pt x="320" y="266"/>
                  </a:lnTo>
                  <a:lnTo>
                    <a:pt x="327" y="283"/>
                  </a:lnTo>
                  <a:lnTo>
                    <a:pt x="333" y="297"/>
                  </a:lnTo>
                  <a:lnTo>
                    <a:pt x="337" y="312"/>
                  </a:lnTo>
                  <a:lnTo>
                    <a:pt x="337" y="326"/>
                  </a:lnTo>
                  <a:lnTo>
                    <a:pt x="339" y="341"/>
                  </a:lnTo>
                  <a:lnTo>
                    <a:pt x="335" y="351"/>
                  </a:lnTo>
                  <a:lnTo>
                    <a:pt x="333" y="363"/>
                  </a:lnTo>
                  <a:lnTo>
                    <a:pt x="327" y="370"/>
                  </a:lnTo>
                  <a:lnTo>
                    <a:pt x="322" y="380"/>
                  </a:lnTo>
                  <a:lnTo>
                    <a:pt x="310" y="382"/>
                  </a:lnTo>
                  <a:lnTo>
                    <a:pt x="298" y="384"/>
                  </a:lnTo>
                  <a:lnTo>
                    <a:pt x="283" y="382"/>
                  </a:lnTo>
                  <a:lnTo>
                    <a:pt x="267" y="380"/>
                  </a:lnTo>
                  <a:lnTo>
                    <a:pt x="250" y="378"/>
                  </a:lnTo>
                  <a:lnTo>
                    <a:pt x="234" y="378"/>
                  </a:lnTo>
                  <a:lnTo>
                    <a:pt x="221" y="382"/>
                  </a:lnTo>
                  <a:lnTo>
                    <a:pt x="213" y="392"/>
                  </a:lnTo>
                  <a:lnTo>
                    <a:pt x="205" y="401"/>
                  </a:lnTo>
                  <a:lnTo>
                    <a:pt x="199" y="411"/>
                  </a:lnTo>
                  <a:lnTo>
                    <a:pt x="194" y="421"/>
                  </a:lnTo>
                  <a:lnTo>
                    <a:pt x="188" y="430"/>
                  </a:lnTo>
                  <a:lnTo>
                    <a:pt x="178" y="444"/>
                  </a:lnTo>
                  <a:lnTo>
                    <a:pt x="174" y="450"/>
                  </a:lnTo>
                  <a:lnTo>
                    <a:pt x="172" y="446"/>
                  </a:lnTo>
                  <a:lnTo>
                    <a:pt x="170" y="438"/>
                  </a:lnTo>
                  <a:lnTo>
                    <a:pt x="164" y="425"/>
                  </a:lnTo>
                  <a:lnTo>
                    <a:pt x="161" y="413"/>
                  </a:lnTo>
                  <a:lnTo>
                    <a:pt x="155" y="397"/>
                  </a:lnTo>
                  <a:lnTo>
                    <a:pt x="149" y="384"/>
                  </a:lnTo>
                  <a:lnTo>
                    <a:pt x="143" y="370"/>
                  </a:lnTo>
                  <a:lnTo>
                    <a:pt x="137" y="365"/>
                  </a:lnTo>
                  <a:lnTo>
                    <a:pt x="126" y="359"/>
                  </a:lnTo>
                  <a:lnTo>
                    <a:pt x="112" y="359"/>
                  </a:lnTo>
                  <a:lnTo>
                    <a:pt x="97" y="359"/>
                  </a:lnTo>
                  <a:lnTo>
                    <a:pt x="83" y="359"/>
                  </a:lnTo>
                  <a:lnTo>
                    <a:pt x="66" y="355"/>
                  </a:lnTo>
                  <a:lnTo>
                    <a:pt x="54" y="349"/>
                  </a:lnTo>
                  <a:lnTo>
                    <a:pt x="42" y="335"/>
                  </a:lnTo>
                  <a:lnTo>
                    <a:pt x="37" y="318"/>
                  </a:lnTo>
                  <a:lnTo>
                    <a:pt x="35" y="295"/>
                  </a:lnTo>
                  <a:lnTo>
                    <a:pt x="38" y="277"/>
                  </a:lnTo>
                  <a:lnTo>
                    <a:pt x="42" y="260"/>
                  </a:lnTo>
                  <a:lnTo>
                    <a:pt x="52" y="248"/>
                  </a:lnTo>
                  <a:lnTo>
                    <a:pt x="58" y="237"/>
                  </a:lnTo>
                  <a:lnTo>
                    <a:pt x="66" y="225"/>
                  </a:lnTo>
                  <a:lnTo>
                    <a:pt x="66" y="213"/>
                  </a:lnTo>
                  <a:lnTo>
                    <a:pt x="64" y="204"/>
                  </a:lnTo>
                  <a:lnTo>
                    <a:pt x="54" y="190"/>
                  </a:lnTo>
                  <a:lnTo>
                    <a:pt x="46" y="178"/>
                  </a:lnTo>
                  <a:lnTo>
                    <a:pt x="37" y="167"/>
                  </a:lnTo>
                  <a:lnTo>
                    <a:pt x="29" y="157"/>
                  </a:lnTo>
                  <a:lnTo>
                    <a:pt x="11" y="138"/>
                  </a:lnTo>
                  <a:lnTo>
                    <a:pt x="2" y="122"/>
                  </a:lnTo>
                  <a:lnTo>
                    <a:pt x="0" y="110"/>
                  </a:lnTo>
                  <a:lnTo>
                    <a:pt x="4" y="97"/>
                  </a:lnTo>
                  <a:lnTo>
                    <a:pt x="13" y="81"/>
                  </a:lnTo>
                  <a:lnTo>
                    <a:pt x="29" y="66"/>
                  </a:lnTo>
                  <a:lnTo>
                    <a:pt x="42" y="48"/>
                  </a:lnTo>
                  <a:lnTo>
                    <a:pt x="56" y="35"/>
                  </a:lnTo>
                  <a:lnTo>
                    <a:pt x="68" y="25"/>
                  </a:lnTo>
                  <a:lnTo>
                    <a:pt x="75" y="25"/>
                  </a:lnTo>
                  <a:lnTo>
                    <a:pt x="112" y="4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 rot="20788800">
              <a:off x="4995000" y="2549520"/>
              <a:ext cx="463320" cy="29671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2967120"/>
                <a:gd name="textAreaBottom" fmla="*/ 2967480 h 2967120"/>
              </a:gdLst>
              <a:ahLst/>
              <a:rect l="textAreaLeft" t="textAreaTop" r="textAreaRight" b="textAreaBottom"/>
              <a:pathLst>
                <a:path w="696" h="3739">
                  <a:moveTo>
                    <a:pt x="547" y="0"/>
                  </a:moveTo>
                  <a:lnTo>
                    <a:pt x="696" y="52"/>
                  </a:lnTo>
                  <a:lnTo>
                    <a:pt x="686" y="72"/>
                  </a:lnTo>
                  <a:lnTo>
                    <a:pt x="667" y="126"/>
                  </a:lnTo>
                  <a:lnTo>
                    <a:pt x="636" y="206"/>
                  </a:lnTo>
                  <a:lnTo>
                    <a:pt x="603" y="299"/>
                  </a:lnTo>
                  <a:lnTo>
                    <a:pt x="568" y="394"/>
                  </a:lnTo>
                  <a:lnTo>
                    <a:pt x="537" y="481"/>
                  </a:lnTo>
                  <a:lnTo>
                    <a:pt x="516" y="551"/>
                  </a:lnTo>
                  <a:lnTo>
                    <a:pt x="508" y="595"/>
                  </a:lnTo>
                  <a:lnTo>
                    <a:pt x="504" y="650"/>
                  </a:lnTo>
                  <a:lnTo>
                    <a:pt x="494" y="758"/>
                  </a:lnTo>
                  <a:lnTo>
                    <a:pt x="481" y="900"/>
                  </a:lnTo>
                  <a:lnTo>
                    <a:pt x="467" y="1057"/>
                  </a:lnTo>
                  <a:lnTo>
                    <a:pt x="452" y="1208"/>
                  </a:lnTo>
                  <a:lnTo>
                    <a:pt x="440" y="1340"/>
                  </a:lnTo>
                  <a:lnTo>
                    <a:pt x="430" y="1433"/>
                  </a:lnTo>
                  <a:lnTo>
                    <a:pt x="429" y="1468"/>
                  </a:lnTo>
                  <a:lnTo>
                    <a:pt x="547" y="1631"/>
                  </a:lnTo>
                  <a:lnTo>
                    <a:pt x="334" y="3582"/>
                  </a:lnTo>
                  <a:lnTo>
                    <a:pt x="0" y="3739"/>
                  </a:lnTo>
                  <a:lnTo>
                    <a:pt x="14" y="3615"/>
                  </a:lnTo>
                  <a:lnTo>
                    <a:pt x="52" y="3289"/>
                  </a:lnTo>
                  <a:lnTo>
                    <a:pt x="107" y="2825"/>
                  </a:lnTo>
                  <a:lnTo>
                    <a:pt x="171" y="2294"/>
                  </a:lnTo>
                  <a:lnTo>
                    <a:pt x="233" y="1753"/>
                  </a:lnTo>
                  <a:lnTo>
                    <a:pt x="291" y="1274"/>
                  </a:lnTo>
                  <a:lnTo>
                    <a:pt x="334" y="919"/>
                  </a:lnTo>
                  <a:lnTo>
                    <a:pt x="353" y="756"/>
                  </a:lnTo>
                  <a:lnTo>
                    <a:pt x="363" y="686"/>
                  </a:lnTo>
                  <a:lnTo>
                    <a:pt x="386" y="586"/>
                  </a:lnTo>
                  <a:lnTo>
                    <a:pt x="415" y="461"/>
                  </a:lnTo>
                  <a:lnTo>
                    <a:pt x="452" y="332"/>
                  </a:lnTo>
                  <a:lnTo>
                    <a:pt x="485" y="206"/>
                  </a:lnTo>
                  <a:lnTo>
                    <a:pt x="516" y="99"/>
                  </a:lnTo>
                  <a:lnTo>
                    <a:pt x="537" y="25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1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4"/>
            <p:cNvSpPr/>
            <p:nvPr/>
          </p:nvSpPr>
          <p:spPr>
            <a:xfrm rot="20788800">
              <a:off x="4768920" y="3392640"/>
              <a:ext cx="243720" cy="308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366" h="388">
                  <a:moveTo>
                    <a:pt x="95" y="0"/>
                  </a:moveTo>
                  <a:lnTo>
                    <a:pt x="293" y="29"/>
                  </a:lnTo>
                  <a:lnTo>
                    <a:pt x="254" y="99"/>
                  </a:lnTo>
                  <a:lnTo>
                    <a:pt x="333" y="66"/>
                  </a:lnTo>
                  <a:lnTo>
                    <a:pt x="366" y="140"/>
                  </a:lnTo>
                  <a:lnTo>
                    <a:pt x="293" y="192"/>
                  </a:lnTo>
                  <a:lnTo>
                    <a:pt x="287" y="194"/>
                  </a:lnTo>
                  <a:lnTo>
                    <a:pt x="277" y="206"/>
                  </a:lnTo>
                  <a:lnTo>
                    <a:pt x="271" y="214"/>
                  </a:lnTo>
                  <a:lnTo>
                    <a:pt x="271" y="225"/>
                  </a:lnTo>
                  <a:lnTo>
                    <a:pt x="271" y="235"/>
                  </a:lnTo>
                  <a:lnTo>
                    <a:pt x="279" y="250"/>
                  </a:lnTo>
                  <a:lnTo>
                    <a:pt x="283" y="262"/>
                  </a:lnTo>
                  <a:lnTo>
                    <a:pt x="287" y="276"/>
                  </a:lnTo>
                  <a:lnTo>
                    <a:pt x="289" y="287"/>
                  </a:lnTo>
                  <a:lnTo>
                    <a:pt x="291" y="299"/>
                  </a:lnTo>
                  <a:lnTo>
                    <a:pt x="285" y="316"/>
                  </a:lnTo>
                  <a:lnTo>
                    <a:pt x="275" y="330"/>
                  </a:lnTo>
                  <a:lnTo>
                    <a:pt x="264" y="332"/>
                  </a:lnTo>
                  <a:lnTo>
                    <a:pt x="254" y="334"/>
                  </a:lnTo>
                  <a:lnTo>
                    <a:pt x="240" y="332"/>
                  </a:lnTo>
                  <a:lnTo>
                    <a:pt x="227" y="332"/>
                  </a:lnTo>
                  <a:lnTo>
                    <a:pt x="211" y="328"/>
                  </a:lnTo>
                  <a:lnTo>
                    <a:pt x="200" y="330"/>
                  </a:lnTo>
                  <a:lnTo>
                    <a:pt x="188" y="332"/>
                  </a:lnTo>
                  <a:lnTo>
                    <a:pt x="184" y="340"/>
                  </a:lnTo>
                  <a:lnTo>
                    <a:pt x="172" y="355"/>
                  </a:lnTo>
                  <a:lnTo>
                    <a:pt x="163" y="373"/>
                  </a:lnTo>
                  <a:lnTo>
                    <a:pt x="155" y="382"/>
                  </a:lnTo>
                  <a:lnTo>
                    <a:pt x="153" y="388"/>
                  </a:lnTo>
                  <a:lnTo>
                    <a:pt x="151" y="384"/>
                  </a:lnTo>
                  <a:lnTo>
                    <a:pt x="149" y="378"/>
                  </a:lnTo>
                  <a:lnTo>
                    <a:pt x="145" y="367"/>
                  </a:lnTo>
                  <a:lnTo>
                    <a:pt x="141" y="357"/>
                  </a:lnTo>
                  <a:lnTo>
                    <a:pt x="136" y="343"/>
                  </a:lnTo>
                  <a:lnTo>
                    <a:pt x="130" y="334"/>
                  </a:lnTo>
                  <a:lnTo>
                    <a:pt x="124" y="322"/>
                  </a:lnTo>
                  <a:lnTo>
                    <a:pt x="118" y="318"/>
                  </a:lnTo>
                  <a:lnTo>
                    <a:pt x="108" y="314"/>
                  </a:lnTo>
                  <a:lnTo>
                    <a:pt x="99" y="312"/>
                  </a:lnTo>
                  <a:lnTo>
                    <a:pt x="85" y="312"/>
                  </a:lnTo>
                  <a:lnTo>
                    <a:pt x="74" y="312"/>
                  </a:lnTo>
                  <a:lnTo>
                    <a:pt x="60" y="309"/>
                  </a:lnTo>
                  <a:lnTo>
                    <a:pt x="48" y="305"/>
                  </a:lnTo>
                  <a:lnTo>
                    <a:pt x="39" y="295"/>
                  </a:lnTo>
                  <a:lnTo>
                    <a:pt x="35" y="281"/>
                  </a:lnTo>
                  <a:lnTo>
                    <a:pt x="33" y="260"/>
                  </a:lnTo>
                  <a:lnTo>
                    <a:pt x="37" y="245"/>
                  </a:lnTo>
                  <a:lnTo>
                    <a:pt x="41" y="231"/>
                  </a:lnTo>
                  <a:lnTo>
                    <a:pt x="48" y="221"/>
                  </a:lnTo>
                  <a:lnTo>
                    <a:pt x="58" y="202"/>
                  </a:lnTo>
                  <a:lnTo>
                    <a:pt x="58" y="184"/>
                  </a:lnTo>
                  <a:lnTo>
                    <a:pt x="50" y="173"/>
                  </a:lnTo>
                  <a:lnTo>
                    <a:pt x="45" y="163"/>
                  </a:lnTo>
                  <a:lnTo>
                    <a:pt x="37" y="151"/>
                  </a:lnTo>
                  <a:lnTo>
                    <a:pt x="31" y="142"/>
                  </a:lnTo>
                  <a:lnTo>
                    <a:pt x="15" y="120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6" y="84"/>
                  </a:lnTo>
                  <a:lnTo>
                    <a:pt x="15" y="70"/>
                  </a:lnTo>
                  <a:lnTo>
                    <a:pt x="29" y="56"/>
                  </a:lnTo>
                  <a:lnTo>
                    <a:pt x="43" y="43"/>
                  </a:lnTo>
                  <a:lnTo>
                    <a:pt x="54" y="31"/>
                  </a:lnTo>
                  <a:lnTo>
                    <a:pt x="60" y="22"/>
                  </a:lnTo>
                  <a:lnTo>
                    <a:pt x="62" y="18"/>
                  </a:lnTo>
                  <a:lnTo>
                    <a:pt x="138" y="8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 rot="20788800">
              <a:off x="3948840" y="2410560"/>
              <a:ext cx="274320" cy="54792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411" h="691">
                  <a:moveTo>
                    <a:pt x="124" y="0"/>
                  </a:moveTo>
                  <a:lnTo>
                    <a:pt x="120" y="4"/>
                  </a:lnTo>
                  <a:lnTo>
                    <a:pt x="111" y="18"/>
                  </a:lnTo>
                  <a:lnTo>
                    <a:pt x="99" y="37"/>
                  </a:lnTo>
                  <a:lnTo>
                    <a:pt x="89" y="63"/>
                  </a:lnTo>
                  <a:lnTo>
                    <a:pt x="80" y="90"/>
                  </a:lnTo>
                  <a:lnTo>
                    <a:pt x="78" y="117"/>
                  </a:lnTo>
                  <a:lnTo>
                    <a:pt x="82" y="144"/>
                  </a:lnTo>
                  <a:lnTo>
                    <a:pt x="99" y="167"/>
                  </a:lnTo>
                  <a:lnTo>
                    <a:pt x="126" y="192"/>
                  </a:lnTo>
                  <a:lnTo>
                    <a:pt x="169" y="229"/>
                  </a:lnTo>
                  <a:lnTo>
                    <a:pt x="219" y="272"/>
                  </a:lnTo>
                  <a:lnTo>
                    <a:pt x="276" y="320"/>
                  </a:lnTo>
                  <a:lnTo>
                    <a:pt x="324" y="365"/>
                  </a:lnTo>
                  <a:lnTo>
                    <a:pt x="369" y="406"/>
                  </a:lnTo>
                  <a:lnTo>
                    <a:pt x="398" y="437"/>
                  </a:lnTo>
                  <a:lnTo>
                    <a:pt x="411" y="458"/>
                  </a:lnTo>
                  <a:lnTo>
                    <a:pt x="409" y="468"/>
                  </a:lnTo>
                  <a:lnTo>
                    <a:pt x="407" y="479"/>
                  </a:lnTo>
                  <a:lnTo>
                    <a:pt x="405" y="485"/>
                  </a:lnTo>
                  <a:lnTo>
                    <a:pt x="402" y="493"/>
                  </a:lnTo>
                  <a:lnTo>
                    <a:pt x="394" y="495"/>
                  </a:lnTo>
                  <a:lnTo>
                    <a:pt x="384" y="497"/>
                  </a:lnTo>
                  <a:lnTo>
                    <a:pt x="369" y="495"/>
                  </a:lnTo>
                  <a:lnTo>
                    <a:pt x="349" y="495"/>
                  </a:lnTo>
                  <a:lnTo>
                    <a:pt x="326" y="491"/>
                  </a:lnTo>
                  <a:lnTo>
                    <a:pt x="303" y="493"/>
                  </a:lnTo>
                  <a:lnTo>
                    <a:pt x="279" y="495"/>
                  </a:lnTo>
                  <a:lnTo>
                    <a:pt x="262" y="501"/>
                  </a:lnTo>
                  <a:lnTo>
                    <a:pt x="243" y="507"/>
                  </a:lnTo>
                  <a:lnTo>
                    <a:pt x="231" y="516"/>
                  </a:lnTo>
                  <a:lnTo>
                    <a:pt x="221" y="526"/>
                  </a:lnTo>
                  <a:lnTo>
                    <a:pt x="217" y="540"/>
                  </a:lnTo>
                  <a:lnTo>
                    <a:pt x="208" y="555"/>
                  </a:lnTo>
                  <a:lnTo>
                    <a:pt x="194" y="576"/>
                  </a:lnTo>
                  <a:lnTo>
                    <a:pt x="175" y="600"/>
                  </a:lnTo>
                  <a:lnTo>
                    <a:pt x="155" y="627"/>
                  </a:lnTo>
                  <a:lnTo>
                    <a:pt x="132" y="650"/>
                  </a:lnTo>
                  <a:lnTo>
                    <a:pt x="115" y="671"/>
                  </a:lnTo>
                  <a:lnTo>
                    <a:pt x="103" y="685"/>
                  </a:lnTo>
                  <a:lnTo>
                    <a:pt x="99" y="691"/>
                  </a:lnTo>
                  <a:lnTo>
                    <a:pt x="95" y="683"/>
                  </a:lnTo>
                  <a:lnTo>
                    <a:pt x="87" y="664"/>
                  </a:lnTo>
                  <a:lnTo>
                    <a:pt x="78" y="637"/>
                  </a:lnTo>
                  <a:lnTo>
                    <a:pt x="70" y="604"/>
                  </a:lnTo>
                  <a:lnTo>
                    <a:pt x="60" y="569"/>
                  </a:lnTo>
                  <a:lnTo>
                    <a:pt x="56" y="536"/>
                  </a:lnTo>
                  <a:lnTo>
                    <a:pt x="56" y="507"/>
                  </a:lnTo>
                  <a:lnTo>
                    <a:pt x="66" y="487"/>
                  </a:lnTo>
                  <a:lnTo>
                    <a:pt x="76" y="470"/>
                  </a:lnTo>
                  <a:lnTo>
                    <a:pt x="84" y="454"/>
                  </a:lnTo>
                  <a:lnTo>
                    <a:pt x="89" y="441"/>
                  </a:lnTo>
                  <a:lnTo>
                    <a:pt x="95" y="429"/>
                  </a:lnTo>
                  <a:lnTo>
                    <a:pt x="99" y="417"/>
                  </a:lnTo>
                  <a:lnTo>
                    <a:pt x="103" y="410"/>
                  </a:lnTo>
                  <a:lnTo>
                    <a:pt x="109" y="404"/>
                  </a:lnTo>
                  <a:lnTo>
                    <a:pt x="118" y="402"/>
                  </a:lnTo>
                  <a:lnTo>
                    <a:pt x="215" y="386"/>
                  </a:lnTo>
                  <a:lnTo>
                    <a:pt x="206" y="381"/>
                  </a:lnTo>
                  <a:lnTo>
                    <a:pt x="184" y="371"/>
                  </a:lnTo>
                  <a:lnTo>
                    <a:pt x="153" y="355"/>
                  </a:lnTo>
                  <a:lnTo>
                    <a:pt x="120" y="336"/>
                  </a:lnTo>
                  <a:lnTo>
                    <a:pt x="82" y="311"/>
                  </a:lnTo>
                  <a:lnTo>
                    <a:pt x="51" y="284"/>
                  </a:lnTo>
                  <a:lnTo>
                    <a:pt x="23" y="256"/>
                  </a:lnTo>
                  <a:lnTo>
                    <a:pt x="10" y="229"/>
                  </a:lnTo>
                  <a:lnTo>
                    <a:pt x="2" y="200"/>
                  </a:lnTo>
                  <a:lnTo>
                    <a:pt x="0" y="171"/>
                  </a:lnTo>
                  <a:lnTo>
                    <a:pt x="0" y="142"/>
                  </a:lnTo>
                  <a:lnTo>
                    <a:pt x="8" y="115"/>
                  </a:lnTo>
                  <a:lnTo>
                    <a:pt x="20" y="86"/>
                  </a:lnTo>
                  <a:lnTo>
                    <a:pt x="45" y="57"/>
                  </a:lnTo>
                  <a:lnTo>
                    <a:pt x="78" y="2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 rot="20788800">
              <a:off x="4440960" y="2336040"/>
              <a:ext cx="266400" cy="5540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54040"/>
                <a:gd name="textAreaBottom" fmla="*/ 554040 h 554040"/>
              </a:gdLst>
              <a:ahLst/>
              <a:rect l="textAreaLeft" t="textAreaTop" r="textAreaRight" b="textAreaBottom"/>
              <a:pathLst>
                <a:path w="399" h="696">
                  <a:moveTo>
                    <a:pt x="0" y="454"/>
                  </a:moveTo>
                  <a:lnTo>
                    <a:pt x="9" y="446"/>
                  </a:lnTo>
                  <a:lnTo>
                    <a:pt x="37" y="430"/>
                  </a:lnTo>
                  <a:lnTo>
                    <a:pt x="75" y="407"/>
                  </a:lnTo>
                  <a:lnTo>
                    <a:pt x="122" y="380"/>
                  </a:lnTo>
                  <a:lnTo>
                    <a:pt x="166" y="349"/>
                  </a:lnTo>
                  <a:lnTo>
                    <a:pt x="207" y="320"/>
                  </a:lnTo>
                  <a:lnTo>
                    <a:pt x="236" y="295"/>
                  </a:lnTo>
                  <a:lnTo>
                    <a:pt x="252" y="275"/>
                  </a:lnTo>
                  <a:lnTo>
                    <a:pt x="252" y="254"/>
                  </a:lnTo>
                  <a:lnTo>
                    <a:pt x="256" y="229"/>
                  </a:lnTo>
                  <a:lnTo>
                    <a:pt x="256" y="200"/>
                  </a:lnTo>
                  <a:lnTo>
                    <a:pt x="259" y="172"/>
                  </a:lnTo>
                  <a:lnTo>
                    <a:pt x="259" y="143"/>
                  </a:lnTo>
                  <a:lnTo>
                    <a:pt x="261" y="122"/>
                  </a:lnTo>
                  <a:lnTo>
                    <a:pt x="261" y="107"/>
                  </a:lnTo>
                  <a:lnTo>
                    <a:pt x="263" y="103"/>
                  </a:lnTo>
                  <a:lnTo>
                    <a:pt x="258" y="99"/>
                  </a:lnTo>
                  <a:lnTo>
                    <a:pt x="246" y="89"/>
                  </a:lnTo>
                  <a:lnTo>
                    <a:pt x="228" y="77"/>
                  </a:lnTo>
                  <a:lnTo>
                    <a:pt x="211" y="64"/>
                  </a:lnTo>
                  <a:lnTo>
                    <a:pt x="192" y="46"/>
                  </a:lnTo>
                  <a:lnTo>
                    <a:pt x="176" y="31"/>
                  </a:lnTo>
                  <a:lnTo>
                    <a:pt x="164" y="17"/>
                  </a:lnTo>
                  <a:lnTo>
                    <a:pt x="163" y="8"/>
                  </a:lnTo>
                  <a:lnTo>
                    <a:pt x="164" y="0"/>
                  </a:lnTo>
                  <a:lnTo>
                    <a:pt x="174" y="0"/>
                  </a:lnTo>
                  <a:lnTo>
                    <a:pt x="188" y="4"/>
                  </a:lnTo>
                  <a:lnTo>
                    <a:pt x="205" y="11"/>
                  </a:lnTo>
                  <a:lnTo>
                    <a:pt x="225" y="21"/>
                  </a:lnTo>
                  <a:lnTo>
                    <a:pt x="246" y="33"/>
                  </a:lnTo>
                  <a:lnTo>
                    <a:pt x="269" y="48"/>
                  </a:lnTo>
                  <a:lnTo>
                    <a:pt x="294" y="68"/>
                  </a:lnTo>
                  <a:lnTo>
                    <a:pt x="314" y="85"/>
                  </a:lnTo>
                  <a:lnTo>
                    <a:pt x="329" y="108"/>
                  </a:lnTo>
                  <a:lnTo>
                    <a:pt x="341" y="130"/>
                  </a:lnTo>
                  <a:lnTo>
                    <a:pt x="349" y="153"/>
                  </a:lnTo>
                  <a:lnTo>
                    <a:pt x="351" y="174"/>
                  </a:lnTo>
                  <a:lnTo>
                    <a:pt x="353" y="194"/>
                  </a:lnTo>
                  <a:lnTo>
                    <a:pt x="351" y="209"/>
                  </a:lnTo>
                  <a:lnTo>
                    <a:pt x="351" y="223"/>
                  </a:lnTo>
                  <a:lnTo>
                    <a:pt x="345" y="233"/>
                  </a:lnTo>
                  <a:lnTo>
                    <a:pt x="339" y="248"/>
                  </a:lnTo>
                  <a:lnTo>
                    <a:pt x="331" y="266"/>
                  </a:lnTo>
                  <a:lnTo>
                    <a:pt x="325" y="287"/>
                  </a:lnTo>
                  <a:lnTo>
                    <a:pt x="320" y="302"/>
                  </a:lnTo>
                  <a:lnTo>
                    <a:pt x="314" y="318"/>
                  </a:lnTo>
                  <a:lnTo>
                    <a:pt x="310" y="328"/>
                  </a:lnTo>
                  <a:lnTo>
                    <a:pt x="310" y="333"/>
                  </a:lnTo>
                  <a:lnTo>
                    <a:pt x="374" y="281"/>
                  </a:lnTo>
                  <a:lnTo>
                    <a:pt x="378" y="287"/>
                  </a:lnTo>
                  <a:lnTo>
                    <a:pt x="389" y="306"/>
                  </a:lnTo>
                  <a:lnTo>
                    <a:pt x="393" y="318"/>
                  </a:lnTo>
                  <a:lnTo>
                    <a:pt x="399" y="330"/>
                  </a:lnTo>
                  <a:lnTo>
                    <a:pt x="399" y="341"/>
                  </a:lnTo>
                  <a:lnTo>
                    <a:pt x="399" y="353"/>
                  </a:lnTo>
                  <a:lnTo>
                    <a:pt x="391" y="362"/>
                  </a:lnTo>
                  <a:lnTo>
                    <a:pt x="384" y="374"/>
                  </a:lnTo>
                  <a:lnTo>
                    <a:pt x="372" y="386"/>
                  </a:lnTo>
                  <a:lnTo>
                    <a:pt x="362" y="399"/>
                  </a:lnTo>
                  <a:lnTo>
                    <a:pt x="351" y="409"/>
                  </a:lnTo>
                  <a:lnTo>
                    <a:pt x="343" y="421"/>
                  </a:lnTo>
                  <a:lnTo>
                    <a:pt x="335" y="426"/>
                  </a:lnTo>
                  <a:lnTo>
                    <a:pt x="335" y="430"/>
                  </a:lnTo>
                  <a:lnTo>
                    <a:pt x="335" y="434"/>
                  </a:lnTo>
                  <a:lnTo>
                    <a:pt x="339" y="444"/>
                  </a:lnTo>
                  <a:lnTo>
                    <a:pt x="343" y="459"/>
                  </a:lnTo>
                  <a:lnTo>
                    <a:pt x="349" y="483"/>
                  </a:lnTo>
                  <a:lnTo>
                    <a:pt x="353" y="506"/>
                  </a:lnTo>
                  <a:lnTo>
                    <a:pt x="358" y="533"/>
                  </a:lnTo>
                  <a:lnTo>
                    <a:pt x="362" y="558"/>
                  </a:lnTo>
                  <a:lnTo>
                    <a:pt x="368" y="584"/>
                  </a:lnTo>
                  <a:lnTo>
                    <a:pt x="366" y="603"/>
                  </a:lnTo>
                  <a:lnTo>
                    <a:pt x="366" y="624"/>
                  </a:lnTo>
                  <a:lnTo>
                    <a:pt x="362" y="644"/>
                  </a:lnTo>
                  <a:lnTo>
                    <a:pt x="358" y="661"/>
                  </a:lnTo>
                  <a:lnTo>
                    <a:pt x="353" y="675"/>
                  </a:lnTo>
                  <a:lnTo>
                    <a:pt x="349" y="686"/>
                  </a:lnTo>
                  <a:lnTo>
                    <a:pt x="347" y="692"/>
                  </a:lnTo>
                  <a:lnTo>
                    <a:pt x="347" y="696"/>
                  </a:lnTo>
                  <a:lnTo>
                    <a:pt x="339" y="686"/>
                  </a:lnTo>
                  <a:lnTo>
                    <a:pt x="322" y="667"/>
                  </a:lnTo>
                  <a:lnTo>
                    <a:pt x="294" y="636"/>
                  </a:lnTo>
                  <a:lnTo>
                    <a:pt x="265" y="605"/>
                  </a:lnTo>
                  <a:lnTo>
                    <a:pt x="232" y="572"/>
                  </a:lnTo>
                  <a:lnTo>
                    <a:pt x="205" y="545"/>
                  </a:lnTo>
                  <a:lnTo>
                    <a:pt x="182" y="525"/>
                  </a:lnTo>
                  <a:lnTo>
                    <a:pt x="168" y="521"/>
                  </a:lnTo>
                  <a:lnTo>
                    <a:pt x="153" y="518"/>
                  </a:lnTo>
                  <a:lnTo>
                    <a:pt x="130" y="514"/>
                  </a:lnTo>
                  <a:lnTo>
                    <a:pt x="99" y="506"/>
                  </a:lnTo>
                  <a:lnTo>
                    <a:pt x="69" y="498"/>
                  </a:lnTo>
                  <a:lnTo>
                    <a:pt x="38" y="487"/>
                  </a:lnTo>
                  <a:lnTo>
                    <a:pt x="15" y="475"/>
                  </a:lnTo>
                  <a:lnTo>
                    <a:pt x="0" y="463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 rot="20788800">
              <a:off x="4042800" y="2372040"/>
              <a:ext cx="511560" cy="39204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767" h="494">
                  <a:moveTo>
                    <a:pt x="0" y="132"/>
                  </a:moveTo>
                  <a:lnTo>
                    <a:pt x="0" y="126"/>
                  </a:lnTo>
                  <a:lnTo>
                    <a:pt x="7" y="114"/>
                  </a:lnTo>
                  <a:lnTo>
                    <a:pt x="17" y="97"/>
                  </a:lnTo>
                  <a:lnTo>
                    <a:pt x="33" y="79"/>
                  </a:lnTo>
                  <a:lnTo>
                    <a:pt x="50" y="58"/>
                  </a:lnTo>
                  <a:lnTo>
                    <a:pt x="71" y="39"/>
                  </a:lnTo>
                  <a:lnTo>
                    <a:pt x="93" y="23"/>
                  </a:lnTo>
                  <a:lnTo>
                    <a:pt x="120" y="15"/>
                  </a:lnTo>
                  <a:lnTo>
                    <a:pt x="149" y="8"/>
                  </a:lnTo>
                  <a:lnTo>
                    <a:pt x="184" y="4"/>
                  </a:lnTo>
                  <a:lnTo>
                    <a:pt x="225" y="0"/>
                  </a:lnTo>
                  <a:lnTo>
                    <a:pt x="271" y="2"/>
                  </a:lnTo>
                  <a:lnTo>
                    <a:pt x="320" y="2"/>
                  </a:lnTo>
                  <a:lnTo>
                    <a:pt x="376" y="10"/>
                  </a:lnTo>
                  <a:lnTo>
                    <a:pt x="434" y="17"/>
                  </a:lnTo>
                  <a:lnTo>
                    <a:pt x="500" y="33"/>
                  </a:lnTo>
                  <a:lnTo>
                    <a:pt x="558" y="46"/>
                  </a:lnTo>
                  <a:lnTo>
                    <a:pt x="610" y="64"/>
                  </a:lnTo>
                  <a:lnTo>
                    <a:pt x="653" y="81"/>
                  </a:lnTo>
                  <a:lnTo>
                    <a:pt x="690" y="99"/>
                  </a:lnTo>
                  <a:lnTo>
                    <a:pt x="717" y="114"/>
                  </a:lnTo>
                  <a:lnTo>
                    <a:pt x="738" y="130"/>
                  </a:lnTo>
                  <a:lnTo>
                    <a:pt x="752" y="143"/>
                  </a:lnTo>
                  <a:lnTo>
                    <a:pt x="760" y="159"/>
                  </a:lnTo>
                  <a:lnTo>
                    <a:pt x="762" y="169"/>
                  </a:lnTo>
                  <a:lnTo>
                    <a:pt x="764" y="184"/>
                  </a:lnTo>
                  <a:lnTo>
                    <a:pt x="766" y="202"/>
                  </a:lnTo>
                  <a:lnTo>
                    <a:pt x="767" y="219"/>
                  </a:lnTo>
                  <a:lnTo>
                    <a:pt x="766" y="235"/>
                  </a:lnTo>
                  <a:lnTo>
                    <a:pt x="766" y="252"/>
                  </a:lnTo>
                  <a:lnTo>
                    <a:pt x="762" y="268"/>
                  </a:lnTo>
                  <a:lnTo>
                    <a:pt x="760" y="281"/>
                  </a:lnTo>
                  <a:lnTo>
                    <a:pt x="740" y="295"/>
                  </a:lnTo>
                  <a:lnTo>
                    <a:pt x="703" y="316"/>
                  </a:lnTo>
                  <a:lnTo>
                    <a:pt x="653" y="341"/>
                  </a:lnTo>
                  <a:lnTo>
                    <a:pt x="599" y="370"/>
                  </a:lnTo>
                  <a:lnTo>
                    <a:pt x="543" y="396"/>
                  </a:lnTo>
                  <a:lnTo>
                    <a:pt x="494" y="421"/>
                  </a:lnTo>
                  <a:lnTo>
                    <a:pt x="457" y="436"/>
                  </a:lnTo>
                  <a:lnTo>
                    <a:pt x="444" y="448"/>
                  </a:lnTo>
                  <a:lnTo>
                    <a:pt x="434" y="460"/>
                  </a:lnTo>
                  <a:lnTo>
                    <a:pt x="424" y="477"/>
                  </a:lnTo>
                  <a:lnTo>
                    <a:pt x="411" y="489"/>
                  </a:lnTo>
                  <a:lnTo>
                    <a:pt x="393" y="494"/>
                  </a:lnTo>
                  <a:lnTo>
                    <a:pt x="376" y="485"/>
                  </a:lnTo>
                  <a:lnTo>
                    <a:pt x="368" y="467"/>
                  </a:lnTo>
                  <a:lnTo>
                    <a:pt x="360" y="448"/>
                  </a:lnTo>
                  <a:lnTo>
                    <a:pt x="356" y="436"/>
                  </a:lnTo>
                  <a:lnTo>
                    <a:pt x="339" y="421"/>
                  </a:lnTo>
                  <a:lnTo>
                    <a:pt x="298" y="388"/>
                  </a:lnTo>
                  <a:lnTo>
                    <a:pt x="242" y="343"/>
                  </a:lnTo>
                  <a:lnTo>
                    <a:pt x="180" y="293"/>
                  </a:lnTo>
                  <a:lnTo>
                    <a:pt x="114" y="238"/>
                  </a:lnTo>
                  <a:lnTo>
                    <a:pt x="58" y="192"/>
                  </a:lnTo>
                  <a:lnTo>
                    <a:pt x="17" y="153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 rot="20788800">
              <a:off x="4084920" y="2926800"/>
              <a:ext cx="332640" cy="128124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1281240"/>
                <a:gd name="textAreaBottom" fmla="*/ 1281600 h 1281240"/>
              </a:gdLst>
              <a:ahLst/>
              <a:rect l="textAreaLeft" t="textAreaTop" r="textAreaRight" b="textAreaBottom"/>
              <a:pathLst>
                <a:path w="500" h="1615">
                  <a:moveTo>
                    <a:pt x="161" y="199"/>
                  </a:moveTo>
                  <a:lnTo>
                    <a:pt x="378" y="120"/>
                  </a:lnTo>
                  <a:lnTo>
                    <a:pt x="455" y="0"/>
                  </a:lnTo>
                  <a:lnTo>
                    <a:pt x="500" y="3"/>
                  </a:lnTo>
                  <a:lnTo>
                    <a:pt x="246" y="1570"/>
                  </a:lnTo>
                  <a:lnTo>
                    <a:pt x="298" y="643"/>
                  </a:lnTo>
                  <a:lnTo>
                    <a:pt x="99" y="1615"/>
                  </a:lnTo>
                  <a:lnTo>
                    <a:pt x="188" y="634"/>
                  </a:lnTo>
                  <a:lnTo>
                    <a:pt x="0" y="1438"/>
                  </a:lnTo>
                  <a:lnTo>
                    <a:pt x="161" y="19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 rot="20788800">
              <a:off x="3646440" y="2649960"/>
              <a:ext cx="349200" cy="1287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523" h="1621">
                  <a:moveTo>
                    <a:pt x="6" y="39"/>
                  </a:moveTo>
                  <a:lnTo>
                    <a:pt x="17" y="35"/>
                  </a:lnTo>
                  <a:lnTo>
                    <a:pt x="50" y="31"/>
                  </a:lnTo>
                  <a:lnTo>
                    <a:pt x="97" y="23"/>
                  </a:lnTo>
                  <a:lnTo>
                    <a:pt x="153" y="16"/>
                  </a:lnTo>
                  <a:lnTo>
                    <a:pt x="207" y="8"/>
                  </a:lnTo>
                  <a:lnTo>
                    <a:pt x="256" y="4"/>
                  </a:lnTo>
                  <a:lnTo>
                    <a:pt x="293" y="0"/>
                  </a:lnTo>
                  <a:lnTo>
                    <a:pt x="314" y="4"/>
                  </a:lnTo>
                  <a:lnTo>
                    <a:pt x="328" y="29"/>
                  </a:lnTo>
                  <a:lnTo>
                    <a:pt x="355" y="87"/>
                  </a:lnTo>
                  <a:lnTo>
                    <a:pt x="388" y="169"/>
                  </a:lnTo>
                  <a:lnTo>
                    <a:pt x="426" y="262"/>
                  </a:lnTo>
                  <a:lnTo>
                    <a:pt x="461" y="355"/>
                  </a:lnTo>
                  <a:lnTo>
                    <a:pt x="492" y="440"/>
                  </a:lnTo>
                  <a:lnTo>
                    <a:pt x="514" y="504"/>
                  </a:lnTo>
                  <a:lnTo>
                    <a:pt x="523" y="539"/>
                  </a:lnTo>
                  <a:lnTo>
                    <a:pt x="516" y="595"/>
                  </a:lnTo>
                  <a:lnTo>
                    <a:pt x="502" y="723"/>
                  </a:lnTo>
                  <a:lnTo>
                    <a:pt x="481" y="898"/>
                  </a:lnTo>
                  <a:lnTo>
                    <a:pt x="457" y="1094"/>
                  </a:lnTo>
                  <a:lnTo>
                    <a:pt x="432" y="1286"/>
                  </a:lnTo>
                  <a:lnTo>
                    <a:pt x="413" y="1456"/>
                  </a:lnTo>
                  <a:lnTo>
                    <a:pt x="397" y="1575"/>
                  </a:lnTo>
                  <a:lnTo>
                    <a:pt x="393" y="1621"/>
                  </a:lnTo>
                  <a:lnTo>
                    <a:pt x="399" y="786"/>
                  </a:lnTo>
                  <a:lnTo>
                    <a:pt x="254" y="1563"/>
                  </a:lnTo>
                  <a:lnTo>
                    <a:pt x="283" y="782"/>
                  </a:lnTo>
                  <a:lnTo>
                    <a:pt x="140" y="1472"/>
                  </a:lnTo>
                  <a:lnTo>
                    <a:pt x="225" y="535"/>
                  </a:lnTo>
                  <a:lnTo>
                    <a:pt x="211" y="512"/>
                  </a:lnTo>
                  <a:lnTo>
                    <a:pt x="182" y="456"/>
                  </a:lnTo>
                  <a:lnTo>
                    <a:pt x="141" y="376"/>
                  </a:lnTo>
                  <a:lnTo>
                    <a:pt x="97" y="285"/>
                  </a:lnTo>
                  <a:lnTo>
                    <a:pt x="52" y="194"/>
                  </a:lnTo>
                  <a:lnTo>
                    <a:pt x="19" y="115"/>
                  </a:lnTo>
                  <a:lnTo>
                    <a:pt x="0" y="58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0"/>
            <p:cNvSpPr/>
            <p:nvPr/>
          </p:nvSpPr>
          <p:spPr>
            <a:xfrm rot="20788800">
              <a:off x="3373200" y="2848320"/>
              <a:ext cx="258480" cy="689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388" h="869">
                  <a:moveTo>
                    <a:pt x="0" y="316"/>
                  </a:moveTo>
                  <a:lnTo>
                    <a:pt x="214" y="0"/>
                  </a:lnTo>
                  <a:lnTo>
                    <a:pt x="388" y="359"/>
                  </a:lnTo>
                  <a:lnTo>
                    <a:pt x="359" y="840"/>
                  </a:lnTo>
                  <a:lnTo>
                    <a:pt x="268" y="398"/>
                  </a:lnTo>
                  <a:lnTo>
                    <a:pt x="260" y="869"/>
                  </a:lnTo>
                  <a:lnTo>
                    <a:pt x="144" y="46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 rot="20788800">
              <a:off x="4373280" y="2841120"/>
              <a:ext cx="328680" cy="12524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495" h="1579">
                  <a:moveTo>
                    <a:pt x="185" y="0"/>
                  </a:moveTo>
                  <a:lnTo>
                    <a:pt x="303" y="6"/>
                  </a:lnTo>
                  <a:lnTo>
                    <a:pt x="495" y="138"/>
                  </a:lnTo>
                  <a:lnTo>
                    <a:pt x="254" y="1579"/>
                  </a:lnTo>
                  <a:lnTo>
                    <a:pt x="266" y="861"/>
                  </a:lnTo>
                  <a:lnTo>
                    <a:pt x="258" y="890"/>
                  </a:lnTo>
                  <a:lnTo>
                    <a:pt x="241" y="968"/>
                  </a:lnTo>
                  <a:lnTo>
                    <a:pt x="214" y="1074"/>
                  </a:lnTo>
                  <a:lnTo>
                    <a:pt x="188" y="1199"/>
                  </a:lnTo>
                  <a:lnTo>
                    <a:pt x="159" y="1317"/>
                  </a:lnTo>
                  <a:lnTo>
                    <a:pt x="136" y="1418"/>
                  </a:lnTo>
                  <a:lnTo>
                    <a:pt x="123" y="1478"/>
                  </a:lnTo>
                  <a:lnTo>
                    <a:pt x="121" y="1486"/>
                  </a:lnTo>
                  <a:lnTo>
                    <a:pt x="124" y="1435"/>
                  </a:lnTo>
                  <a:lnTo>
                    <a:pt x="130" y="1352"/>
                  </a:lnTo>
                  <a:lnTo>
                    <a:pt x="138" y="1245"/>
                  </a:lnTo>
                  <a:lnTo>
                    <a:pt x="146" y="1133"/>
                  </a:lnTo>
                  <a:lnTo>
                    <a:pt x="152" y="1022"/>
                  </a:lnTo>
                  <a:lnTo>
                    <a:pt x="157" y="927"/>
                  </a:lnTo>
                  <a:lnTo>
                    <a:pt x="161" y="861"/>
                  </a:lnTo>
                  <a:lnTo>
                    <a:pt x="165" y="838"/>
                  </a:lnTo>
                  <a:lnTo>
                    <a:pt x="0" y="1394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 rot="20788800">
              <a:off x="4693320" y="2580480"/>
              <a:ext cx="317160" cy="76536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477" h="964">
                  <a:moveTo>
                    <a:pt x="45" y="541"/>
                  </a:moveTo>
                  <a:lnTo>
                    <a:pt x="0" y="892"/>
                  </a:lnTo>
                  <a:lnTo>
                    <a:pt x="116" y="686"/>
                  </a:lnTo>
                  <a:lnTo>
                    <a:pt x="126" y="933"/>
                  </a:lnTo>
                  <a:lnTo>
                    <a:pt x="240" y="710"/>
                  </a:lnTo>
                  <a:lnTo>
                    <a:pt x="240" y="721"/>
                  </a:lnTo>
                  <a:lnTo>
                    <a:pt x="240" y="756"/>
                  </a:lnTo>
                  <a:lnTo>
                    <a:pt x="240" y="803"/>
                  </a:lnTo>
                  <a:lnTo>
                    <a:pt x="244" y="855"/>
                  </a:lnTo>
                  <a:lnTo>
                    <a:pt x="244" y="904"/>
                  </a:lnTo>
                  <a:lnTo>
                    <a:pt x="248" y="944"/>
                  </a:lnTo>
                  <a:lnTo>
                    <a:pt x="250" y="964"/>
                  </a:lnTo>
                  <a:lnTo>
                    <a:pt x="254" y="960"/>
                  </a:lnTo>
                  <a:lnTo>
                    <a:pt x="264" y="902"/>
                  </a:lnTo>
                  <a:lnTo>
                    <a:pt x="291" y="789"/>
                  </a:lnTo>
                  <a:lnTo>
                    <a:pt x="326" y="638"/>
                  </a:lnTo>
                  <a:lnTo>
                    <a:pt x="368" y="473"/>
                  </a:lnTo>
                  <a:lnTo>
                    <a:pt x="407" y="308"/>
                  </a:lnTo>
                  <a:lnTo>
                    <a:pt x="442" y="169"/>
                  </a:lnTo>
                  <a:lnTo>
                    <a:pt x="467" y="70"/>
                  </a:lnTo>
                  <a:lnTo>
                    <a:pt x="477" y="35"/>
                  </a:lnTo>
                  <a:lnTo>
                    <a:pt x="339" y="0"/>
                  </a:lnTo>
                  <a:lnTo>
                    <a:pt x="299" y="217"/>
                  </a:lnTo>
                  <a:lnTo>
                    <a:pt x="295" y="229"/>
                  </a:lnTo>
                  <a:lnTo>
                    <a:pt x="287" y="266"/>
                  </a:lnTo>
                  <a:lnTo>
                    <a:pt x="275" y="318"/>
                  </a:lnTo>
                  <a:lnTo>
                    <a:pt x="264" y="382"/>
                  </a:lnTo>
                  <a:lnTo>
                    <a:pt x="248" y="446"/>
                  </a:lnTo>
                  <a:lnTo>
                    <a:pt x="233" y="510"/>
                  </a:lnTo>
                  <a:lnTo>
                    <a:pt x="217" y="560"/>
                  </a:lnTo>
                  <a:lnTo>
                    <a:pt x="206" y="597"/>
                  </a:lnTo>
                  <a:lnTo>
                    <a:pt x="188" y="611"/>
                  </a:lnTo>
                  <a:lnTo>
                    <a:pt x="167" y="613"/>
                  </a:lnTo>
                  <a:lnTo>
                    <a:pt x="140" y="605"/>
                  </a:lnTo>
                  <a:lnTo>
                    <a:pt x="112" y="591"/>
                  </a:lnTo>
                  <a:lnTo>
                    <a:pt x="85" y="574"/>
                  </a:lnTo>
                  <a:lnTo>
                    <a:pt x="64" y="557"/>
                  </a:lnTo>
                  <a:lnTo>
                    <a:pt x="48" y="545"/>
                  </a:lnTo>
                  <a:lnTo>
                    <a:pt x="45" y="541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3"/>
            <p:cNvSpPr/>
            <p:nvPr/>
          </p:nvSpPr>
          <p:spPr>
            <a:xfrm rot="20788800">
              <a:off x="5154840" y="2685600"/>
              <a:ext cx="264960" cy="7066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397" h="888">
                  <a:moveTo>
                    <a:pt x="207" y="0"/>
                  </a:moveTo>
                  <a:lnTo>
                    <a:pt x="34" y="322"/>
                  </a:lnTo>
                  <a:lnTo>
                    <a:pt x="0" y="702"/>
                  </a:lnTo>
                  <a:lnTo>
                    <a:pt x="122" y="370"/>
                  </a:lnTo>
                  <a:lnTo>
                    <a:pt x="250" y="256"/>
                  </a:lnTo>
                  <a:lnTo>
                    <a:pt x="139" y="446"/>
                  </a:lnTo>
                  <a:lnTo>
                    <a:pt x="65" y="888"/>
                  </a:lnTo>
                  <a:lnTo>
                    <a:pt x="232" y="461"/>
                  </a:lnTo>
                  <a:lnTo>
                    <a:pt x="397" y="266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4"/>
            <p:cNvSpPr/>
            <p:nvPr/>
          </p:nvSpPr>
          <p:spPr>
            <a:xfrm rot="20788800">
              <a:off x="5319360" y="2991600"/>
              <a:ext cx="381960" cy="7542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573" h="950">
                  <a:moveTo>
                    <a:pt x="391" y="0"/>
                  </a:moveTo>
                  <a:lnTo>
                    <a:pt x="240" y="169"/>
                  </a:lnTo>
                  <a:lnTo>
                    <a:pt x="228" y="198"/>
                  </a:lnTo>
                  <a:lnTo>
                    <a:pt x="199" y="275"/>
                  </a:lnTo>
                  <a:lnTo>
                    <a:pt x="159" y="384"/>
                  </a:lnTo>
                  <a:lnTo>
                    <a:pt x="114" y="508"/>
                  </a:lnTo>
                  <a:lnTo>
                    <a:pt x="67" y="628"/>
                  </a:lnTo>
                  <a:lnTo>
                    <a:pt x="31" y="731"/>
                  </a:lnTo>
                  <a:lnTo>
                    <a:pt x="4" y="799"/>
                  </a:lnTo>
                  <a:lnTo>
                    <a:pt x="0" y="817"/>
                  </a:lnTo>
                  <a:lnTo>
                    <a:pt x="13" y="787"/>
                  </a:lnTo>
                  <a:lnTo>
                    <a:pt x="44" y="741"/>
                  </a:lnTo>
                  <a:lnTo>
                    <a:pt x="85" y="681"/>
                  </a:lnTo>
                  <a:lnTo>
                    <a:pt x="131" y="619"/>
                  </a:lnTo>
                  <a:lnTo>
                    <a:pt x="176" y="555"/>
                  </a:lnTo>
                  <a:lnTo>
                    <a:pt x="215" y="504"/>
                  </a:lnTo>
                  <a:lnTo>
                    <a:pt x="242" y="467"/>
                  </a:lnTo>
                  <a:lnTo>
                    <a:pt x="254" y="454"/>
                  </a:lnTo>
                  <a:lnTo>
                    <a:pt x="97" y="927"/>
                  </a:lnTo>
                  <a:lnTo>
                    <a:pt x="351" y="520"/>
                  </a:lnTo>
                  <a:lnTo>
                    <a:pt x="195" y="950"/>
                  </a:lnTo>
                  <a:lnTo>
                    <a:pt x="573" y="353"/>
                  </a:lnTo>
                  <a:lnTo>
                    <a:pt x="566" y="336"/>
                  </a:lnTo>
                  <a:lnTo>
                    <a:pt x="546" y="291"/>
                  </a:lnTo>
                  <a:lnTo>
                    <a:pt x="519" y="229"/>
                  </a:lnTo>
                  <a:lnTo>
                    <a:pt x="490" y="161"/>
                  </a:lnTo>
                  <a:lnTo>
                    <a:pt x="457" y="93"/>
                  </a:lnTo>
                  <a:lnTo>
                    <a:pt x="428" y="37"/>
                  </a:lnTo>
                  <a:lnTo>
                    <a:pt x="403" y="2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5"/>
            <p:cNvSpPr/>
            <p:nvPr/>
          </p:nvSpPr>
          <p:spPr>
            <a:xfrm rot="20788800">
              <a:off x="3233160" y="3280320"/>
              <a:ext cx="308880" cy="75384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753840"/>
                <a:gd name="textAreaBottom" fmla="*/ 754200 h 753840"/>
              </a:gdLst>
              <a:ahLst/>
              <a:rect l="textAreaLeft" t="textAreaTop" r="textAreaRight" b="textAreaBottom"/>
              <a:pathLst>
                <a:path w="463" h="950">
                  <a:moveTo>
                    <a:pt x="209" y="0"/>
                  </a:moveTo>
                  <a:lnTo>
                    <a:pt x="403" y="242"/>
                  </a:lnTo>
                  <a:lnTo>
                    <a:pt x="463" y="719"/>
                  </a:lnTo>
                  <a:lnTo>
                    <a:pt x="335" y="387"/>
                  </a:lnTo>
                  <a:lnTo>
                    <a:pt x="365" y="690"/>
                  </a:lnTo>
                  <a:lnTo>
                    <a:pt x="397" y="874"/>
                  </a:lnTo>
                  <a:lnTo>
                    <a:pt x="295" y="618"/>
                  </a:lnTo>
                  <a:lnTo>
                    <a:pt x="215" y="461"/>
                  </a:lnTo>
                  <a:lnTo>
                    <a:pt x="312" y="950"/>
                  </a:lnTo>
                  <a:lnTo>
                    <a:pt x="0" y="362"/>
                  </a:lnTo>
                  <a:lnTo>
                    <a:pt x="8" y="345"/>
                  </a:lnTo>
                  <a:lnTo>
                    <a:pt x="31" y="302"/>
                  </a:lnTo>
                  <a:lnTo>
                    <a:pt x="64" y="240"/>
                  </a:lnTo>
                  <a:lnTo>
                    <a:pt x="105" y="172"/>
                  </a:lnTo>
                  <a:lnTo>
                    <a:pt x="144" y="102"/>
                  </a:lnTo>
                  <a:lnTo>
                    <a:pt x="176" y="44"/>
                  </a:lnTo>
                  <a:lnTo>
                    <a:pt x="200" y="7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6"/>
            <p:cNvSpPr/>
            <p:nvPr/>
          </p:nvSpPr>
          <p:spPr>
            <a:xfrm rot="20788800">
              <a:off x="5589720" y="3371040"/>
              <a:ext cx="343800" cy="567000"/>
            </a:xfrm>
            <a:custGeom>
              <a:avLst/>
              <a:gdLst>
                <a:gd name="textAreaLeft" fmla="*/ 0 w 343800"/>
                <a:gd name="textAreaRight" fmla="*/ 344160 w 34380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516" h="714">
                  <a:moveTo>
                    <a:pt x="363" y="0"/>
                  </a:moveTo>
                  <a:lnTo>
                    <a:pt x="0" y="568"/>
                  </a:lnTo>
                  <a:lnTo>
                    <a:pt x="262" y="378"/>
                  </a:lnTo>
                  <a:lnTo>
                    <a:pt x="90" y="636"/>
                  </a:lnTo>
                  <a:lnTo>
                    <a:pt x="361" y="454"/>
                  </a:lnTo>
                  <a:lnTo>
                    <a:pt x="173" y="714"/>
                  </a:lnTo>
                  <a:lnTo>
                    <a:pt x="181" y="708"/>
                  </a:lnTo>
                  <a:lnTo>
                    <a:pt x="202" y="692"/>
                  </a:lnTo>
                  <a:lnTo>
                    <a:pt x="235" y="671"/>
                  </a:lnTo>
                  <a:lnTo>
                    <a:pt x="274" y="644"/>
                  </a:lnTo>
                  <a:lnTo>
                    <a:pt x="312" y="613"/>
                  </a:lnTo>
                  <a:lnTo>
                    <a:pt x="353" y="584"/>
                  </a:lnTo>
                  <a:lnTo>
                    <a:pt x="388" y="553"/>
                  </a:lnTo>
                  <a:lnTo>
                    <a:pt x="415" y="528"/>
                  </a:lnTo>
                  <a:lnTo>
                    <a:pt x="433" y="495"/>
                  </a:lnTo>
                  <a:lnTo>
                    <a:pt x="452" y="450"/>
                  </a:lnTo>
                  <a:lnTo>
                    <a:pt x="469" y="396"/>
                  </a:lnTo>
                  <a:lnTo>
                    <a:pt x="485" y="343"/>
                  </a:lnTo>
                  <a:lnTo>
                    <a:pt x="497" y="291"/>
                  </a:lnTo>
                  <a:lnTo>
                    <a:pt x="506" y="248"/>
                  </a:lnTo>
                  <a:lnTo>
                    <a:pt x="512" y="217"/>
                  </a:lnTo>
                  <a:lnTo>
                    <a:pt x="516" y="208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7"/>
            <p:cNvSpPr/>
            <p:nvPr/>
          </p:nvSpPr>
          <p:spPr>
            <a:xfrm rot="20788800">
              <a:off x="3110760" y="3692520"/>
              <a:ext cx="311760" cy="58608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586080"/>
                <a:gd name="textAreaBottom" fmla="*/ 586080 h 586080"/>
              </a:gdLst>
              <a:ahLst/>
              <a:rect l="textAreaLeft" t="textAreaTop" r="textAreaRight" b="textAreaBottom"/>
              <a:pathLst>
                <a:path w="470" h="737">
                  <a:moveTo>
                    <a:pt x="194" y="0"/>
                  </a:moveTo>
                  <a:lnTo>
                    <a:pt x="353" y="341"/>
                  </a:lnTo>
                  <a:lnTo>
                    <a:pt x="470" y="597"/>
                  </a:lnTo>
                  <a:lnTo>
                    <a:pt x="243" y="333"/>
                  </a:lnTo>
                  <a:lnTo>
                    <a:pt x="309" y="520"/>
                  </a:lnTo>
                  <a:lnTo>
                    <a:pt x="417" y="649"/>
                  </a:lnTo>
                  <a:lnTo>
                    <a:pt x="233" y="537"/>
                  </a:lnTo>
                  <a:lnTo>
                    <a:pt x="169" y="432"/>
                  </a:lnTo>
                  <a:lnTo>
                    <a:pt x="216" y="611"/>
                  </a:lnTo>
                  <a:lnTo>
                    <a:pt x="373" y="737"/>
                  </a:lnTo>
                  <a:lnTo>
                    <a:pt x="359" y="735"/>
                  </a:lnTo>
                  <a:lnTo>
                    <a:pt x="328" y="729"/>
                  </a:lnTo>
                  <a:lnTo>
                    <a:pt x="281" y="717"/>
                  </a:lnTo>
                  <a:lnTo>
                    <a:pt x="229" y="700"/>
                  </a:lnTo>
                  <a:lnTo>
                    <a:pt x="171" y="671"/>
                  </a:lnTo>
                  <a:lnTo>
                    <a:pt x="119" y="630"/>
                  </a:lnTo>
                  <a:lnTo>
                    <a:pt x="74" y="574"/>
                  </a:lnTo>
                  <a:lnTo>
                    <a:pt x="45" y="502"/>
                  </a:lnTo>
                  <a:lnTo>
                    <a:pt x="26" y="426"/>
                  </a:lnTo>
                  <a:lnTo>
                    <a:pt x="14" y="370"/>
                  </a:lnTo>
                  <a:lnTo>
                    <a:pt x="6" y="324"/>
                  </a:lnTo>
                  <a:lnTo>
                    <a:pt x="2" y="293"/>
                  </a:lnTo>
                  <a:lnTo>
                    <a:pt x="0" y="267"/>
                  </a:lnTo>
                  <a:lnTo>
                    <a:pt x="0" y="254"/>
                  </a:lnTo>
                  <a:lnTo>
                    <a:pt x="0" y="246"/>
                  </a:lnTo>
                  <a:lnTo>
                    <a:pt x="2" y="246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b050"/>
                </a:solidFill>
                <a:latin typeface="Calibri"/>
              </a:rPr>
              <a:t>das T-Shir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C:\Users\Monty\AppData\Local\Microsoft\Windows\Temporary Internet Files\Content.IE5\GME7AUO9\MC900044903[1].wmf"/>
          <p:cNvPicPr/>
          <p:nvPr/>
        </p:nvPicPr>
        <p:blipFill>
          <a:blip r:embed="rId1"/>
          <a:stretch/>
        </p:blipFill>
        <p:spPr>
          <a:xfrm rot="473400">
            <a:off x="2260080" y="1935000"/>
            <a:ext cx="4761000" cy="4424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>
            <a:off x="2484360" y="1844640"/>
            <a:ext cx="440388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00ff"/>
                </a:solidFill>
                <a:latin typeface="Calibri"/>
              </a:rPr>
              <a:t>der Pullov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Monty\AppData\Local\Microsoft\Windows\Temporary Internet Files\Content.IE5\OZWU1CFI\MC900154086[1].wmf"/>
          <p:cNvPicPr/>
          <p:nvPr/>
        </p:nvPicPr>
        <p:blipFill>
          <a:blip r:embed="rId1"/>
          <a:stretch/>
        </p:blipFill>
        <p:spPr>
          <a:xfrm>
            <a:off x="2484360" y="184464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00ff"/>
                </a:solidFill>
                <a:latin typeface="Calibri"/>
              </a:rPr>
              <a:t>der Scha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Monty\AppData\Local\Microsoft\Windows\Temporary Internet Files\Content.IE5\FMJON4F1\MC900113486[1].wmf"/>
          <p:cNvPicPr/>
          <p:nvPr/>
        </p:nvPicPr>
        <p:blipFill>
          <a:blip r:embed="rId1"/>
          <a:stretch/>
        </p:blipFill>
        <p:spPr>
          <a:xfrm rot="21214800">
            <a:off x="2411280" y="1892160"/>
            <a:ext cx="464184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00ff"/>
                </a:solidFill>
                <a:latin typeface="Calibri"/>
              </a:rPr>
              <a:t>der Hu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Monty\AppData\Local\Microsoft\Windows\Temporary Internet Files\Content.IE5\OZWU1CFI\MC900436196[1].png"/>
          <p:cNvPicPr/>
          <p:nvPr/>
        </p:nvPicPr>
        <p:blipFill>
          <a:blip r:embed="rId1"/>
          <a:stretch/>
        </p:blipFill>
        <p:spPr>
          <a:xfrm rot="21309600">
            <a:off x="2214720" y="2098440"/>
            <a:ext cx="4795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00ff"/>
                </a:solidFill>
                <a:latin typeface="Calibri"/>
              </a:rPr>
              <a:t>der Roc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Users\Monty\AppData\Local\Microsoft\Windows\Temporary Internet Files\Content.IE5\FMJON4F1\MC900113322[1].wmf"/>
          <p:cNvPicPr/>
          <p:nvPr/>
        </p:nvPicPr>
        <p:blipFill>
          <a:blip r:embed="rId1"/>
          <a:stretch/>
        </p:blipFill>
        <p:spPr>
          <a:xfrm>
            <a:off x="2987640" y="2060640"/>
            <a:ext cx="41972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Stiefe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C:\Users\Monty\AppData\Local\Microsoft\Windows\Temporary Internet Files\Content.IE5\FMJON4F1\MC900038674[1].wmf"/>
          <p:cNvPicPr/>
          <p:nvPr/>
        </p:nvPicPr>
        <p:blipFill>
          <a:blip r:embed="rId1"/>
          <a:stretch/>
        </p:blipFill>
        <p:spPr>
          <a:xfrm>
            <a:off x="1979640" y="2043000"/>
            <a:ext cx="5113440" cy="3591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132000" y="5805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er Stief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Jean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:\Users\Monty\AppData\Local\Microsoft\Windows\Temporary Internet Files\Content.IE5\GME7AUO9\MC900013096[1].wmf"/>
          <p:cNvPicPr/>
          <p:nvPr/>
        </p:nvPicPr>
        <p:blipFill>
          <a:blip r:embed="rId1"/>
          <a:stretch/>
        </p:blipFill>
        <p:spPr>
          <a:xfrm>
            <a:off x="3348000" y="2276640"/>
            <a:ext cx="24638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Shor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Monty\AppData\Local\Microsoft\Windows\Temporary Internet Files\Content.IE5\GME7AUO9\MC900030711[1].wmf"/>
          <p:cNvPicPr/>
          <p:nvPr/>
        </p:nvPicPr>
        <p:blipFill>
          <a:blip r:embed="rId1"/>
          <a:stretch/>
        </p:blipFill>
        <p:spPr>
          <a:xfrm>
            <a:off x="2987640" y="2276640"/>
            <a:ext cx="35226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Ho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Monty\AppData\Local\Microsoft\Windows\Temporary Internet Files\Content.IE5\FMJON4F1\MC900113270[1].wmf"/>
          <p:cNvPicPr/>
          <p:nvPr/>
        </p:nvPicPr>
        <p:blipFill>
          <a:blip r:embed="rId1"/>
          <a:stretch/>
        </p:blipFill>
        <p:spPr>
          <a:xfrm>
            <a:off x="3471840" y="1600200"/>
            <a:ext cx="220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05:56:40Z</dcterms:created>
  <dc:creator>Monty</dc:creator>
  <dc:description/>
  <dc:language>en-US</dc:language>
  <cp:lastModifiedBy>Monty</cp:lastModifiedBy>
  <dcterms:modified xsi:type="dcterms:W3CDTF">2010-08-03T21:11:45Z</dcterms:modified>
  <cp:revision>16</cp:revision>
  <dc:subject/>
  <dc:title>Kleidung</dc:title>
</cp:coreProperties>
</file>